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E5A-7DB1-4EC2-824C-411C3040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DCA-B1FB-453A-995A-CE935827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1D4-8BD9-4FB0-B139-E28F8823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C70-F0CD-4DBC-B74F-CE54C157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D361-AE3F-41A8-A66B-EF51B4DB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6D84-6BE6-4EE7-AFE8-66145C7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D988-E57B-4CA7-9A63-039867B5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6DAD-F43E-4489-AE6D-A4A09AC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AC2A-D7A5-4073-B66F-71529402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F937-F165-4F7E-B00E-845B8371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C9D3-982E-42DB-ACC2-9FC5E382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3A9-EC9C-43BD-BD0B-644CCDE4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DA6A-9735-4FE3-98A3-28D6C291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2501-E38F-40EE-B054-520301AB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75BF-19FA-4953-BB18-5BC78E39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8946-712C-4337-BA08-E4D5EE40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D570-8F28-444B-BEAE-FC8B08EC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7339-0AB2-4E76-9EB1-42E10096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7BB1-A872-4CF2-8765-462E1E59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A4B8-9EFA-4882-A945-5A12A34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EC9F-B63D-4959-89C9-5267B353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EEF8-9E18-4768-B015-572B582B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FCF-E725-4ED4-8BBA-7A096623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655A-EB1D-45A9-924A-CB6347E5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A98A-AB52-4A36-BD4E-046DDCD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756F-7824-48B0-8A38-4A74746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0B7F-CA0D-42E3-9FA1-DEF9F45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F6AE-7A58-4E7B-9122-99EE67E9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71E2-89A4-4F11-9A2C-CA392EEA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6BEA-9693-4AAF-9300-F2DBEF23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3FE-3391-47C5-AE32-E7FF5D28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611-C899-4219-AA4B-1F7FCFFB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233-FCDC-4BF0-A9E8-2C1744B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0CF-2C77-4EDC-A520-D9D8B9C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74B-FBE5-49B7-9F92-9A4C97B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48C-50D3-40F4-81E1-1B5C756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6441-9657-4628-8FEC-6111467C75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A7B-0B9F-44ED-BF33-E8D83E12B1B6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C809-B384-4DB2-8E97-7FB5EF378159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بسم الله الرحمن الرحي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757760" y="1557360"/>
            <a:ext cx="399096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هكذا تملك السيجارة قلبك .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99cc00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كونات السيج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السيجارة من عدة مركبات يصل عددها إلى أكثر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ركب ، وأشدها ضرراً ، وأعظمها خطراً النيكوتين ، حيث يوجد منه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في كل سيجارة ، وأضراره ه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 أن النيكوتين يؤثر على أنسجة الجس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جراماً واحداً منه يكفي لقتل عشرة كلاب من الحجم الكبير دفعة واح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حقنة منه تقدر بسنتيمتر مكعب كافية لقتل حصان قوي في لحظات قليل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منه تقتل  الإنسان في لحظات إذا حقنت عن طريق الوري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18080" cy="1143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أبيات شعرية حول التدخين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435880" cy="22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ل البهائم والطيور تبـاعدت ... لم تستطع الأكل من أشجـا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كذا الحمام إذا رآه بقربـــــه ... ترك المكان وحاد عن أوكار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النحل لم تأكله حال سلوكها ... أبداً ولم تنزل على أزهــــا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300640"/>
            <a:ext cx="360036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فهل هذه المخلوقات أعقل من المدخن ؟؟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8360" y="189000"/>
            <a:ext cx="4895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1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مدخن عبد رقيق لسيجارته ؟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1143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سباب الوقوع في التدخي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1844640"/>
            <a:ext cx="8505720" cy="1440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جريت العديد من الدراسات والاستبانات حول أسباب الوقوع في التدخين فكانت النتيجة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5280" y="328608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رفقاء الس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6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التجر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غ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3080" y="479736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رجو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5840" y="4869000"/>
            <a:ext cx="295416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الجهل بضر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وال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4520" y="3143160"/>
            <a:ext cx="52354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ئة مدخ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440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علاقة التدخين بالانحرافات السلوكية وتقوية منازع الشر 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7905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مرأة بدوية تمكن رجل من عرضها بسبب سيجار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508640"/>
            <a:ext cx="36720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ذكرها الشيخ بن عثيمين رحمه الل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 مطوية اللجنة السعودية لحما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الشباب من التدخي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189000"/>
            <a:ext cx="2016000" cy="1584360"/>
          </a:xfrm>
          <a:prstGeom prst="cloudCallout">
            <a:avLst>
              <a:gd name="adj1" fmla="val -161337"/>
              <a:gd name="adj2" fmla="val 5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والجنس ؟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916280"/>
            <a:ext cx="8229600" cy="93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لف بريطاني أعمارهم بي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عاماً يعانون من مشاكل جنسية مرتبطة بالتدخ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3500280"/>
            <a:ext cx="8229600" cy="57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مضر بجميع أوجه الحياة الجنسية وخاصة القدرة على الإنجا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450864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صابة بسرطان الرحم سنوياً في بريطانيا للمدخن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58972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جهاض من التدخين السلبي في بريطانيا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0920" y="5445000"/>
            <a:ext cx="28810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2995560"/>
            <a:ext cx="8604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دعها فإنها منتنة ؟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556000" y="0"/>
            <a:ext cx="619272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تدخين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76280"/>
            <a:ext cx="504036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طاعون العص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3732120"/>
            <a:ext cx="334800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تدخين وسوء الخات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059640" y="403560"/>
            <a:ext cx="3024360" cy="7921440"/>
          </a:xfrm>
          <a:prstGeom prst="verticalScroll">
            <a:avLst>
              <a:gd name="adj" fmla="val 12500"/>
            </a:avLst>
          </a:prstGeom>
          <a:solidFill>
            <a:srgbClr val="a8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ال الشيخ محمد بن عبد اللطيف ” رحمه الل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سافرنا لمكة ومعنا رجل من قطر كثير الصلاة والخير إ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نه يدخن فمات في الطريق فكفن ف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كلما وجهناه 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734080"/>
            <a:ext cx="273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ن كتاب تنبيه الغافلين 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برة فهل من معتبر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884240" y="-292320"/>
            <a:ext cx="5373720" cy="8640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شاب في الخامسة والعشرين من عمره ، ابتلي بشرب الدخان لعدة سنو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ذات يوم أدخل المستشفى بسبب ألم مفاجئ وهو هبوط في القل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ضع عدة أيام بغرفة العناية المركزة تحت مراقبة الأجهزة الطب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طورة ، حيث أن الطبيب المشرف على علاجه أصدر أوامره له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مريض بعدم إدخال الدخان للمذكور لأنه السبب الرئيسي لمرض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تفتيش الزوار خوفاً من تسلل الدخان له خف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حسنت صحت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دأ يستعيد نشاطه . . إلا أنه لم يتقيد أخيراً بتعليمات الأطباء 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يث عاد إلى التدخين ، وفي أحد الأيام فُقد هذا الشا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حثوا عنه فوجدوه في أحد الحمامات وقد فارق الحي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يده سيجا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84360" y="692280"/>
            <a:ext cx="81356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من أجل صحتك قل الآن 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لا للتدخين 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3143160"/>
            <a:ext cx="8459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تدخين للأم يشوه الجن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قل ماذا تدخن أقل لك من أنت ؟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دخ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تميز بروح المغام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ور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ليل الاستق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شعر بالانقي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غير مستقل العقل والمشاع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نطوا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639800"/>
            <a:ext cx="3960720" cy="452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غير مدخ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بحث عن الطمأن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نسجم مع من حو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تأنِ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ثق بنفس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ستقر العقل والمشاع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نبساط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 rot="17933400">
            <a:off x="-386280" y="1146240"/>
            <a:ext cx="3438360" cy="403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هبك الله نوراً وصفاءً في قلبك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فلا تسوده بالتدخين ؟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79280" y="4653000"/>
            <a:ext cx="874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سواك خير بديل للسيجارة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341360"/>
            <a:ext cx="8505720" cy="936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 أكثر من أن تحصر ولعل من أبرزها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02520" y="26352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سرط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أنواع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2563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ضع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ن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49228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مرض الس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7440" y="46530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تصلب الشراي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0560" y="4724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ضيق الت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ب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27280" y="465300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ضغط ال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7280" y="404640"/>
            <a:ext cx="4259160" cy="7257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 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7800" y="177156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جها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ند الن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2492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وت الموال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162864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شوه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للموال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7440" y="421956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لطة الدم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0560" y="4579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هاب ال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تشوه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27280" y="407664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حموض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87280" y="41256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ضرر التدخين اقتصاد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26828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إذا كنت تدخن علبة يوم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2060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هذا يعني أنك 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شهريا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068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ا سنوياً فإنفاقك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4005360"/>
            <a:ext cx="8434440" cy="1368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خلال عشر سنوات س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مانية عشر ألف ريا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5516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000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يال خلال عشرين سن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15920"/>
            <a:ext cx="1944720" cy="1440000"/>
          </a:xfrm>
          <a:prstGeom prst="cloudCallout">
            <a:avLst>
              <a:gd name="adj1" fmla="val 108939"/>
              <a:gd name="adj2" fmla="val 91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هل المدخن عاقل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حقائق وأرقام 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2970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دد المدخنين في العال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,100,0000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رجال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نساء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3284640"/>
            <a:ext cx="8229600" cy="1728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شخص  يموتون سنوياً بسبب التدخين أي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4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ومياً 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ساعة 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دقيقة ، واحد كل ثان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229360"/>
            <a:ext cx="8229600" cy="1296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حجم مبيعات السجائر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ار سيجارة في العام بقيم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ليون دولار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923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مور المعينة على ترك التدخين 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68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اعتماد على الله سبحانه وتعالى والتوكل علي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رغبة الصادقة والعزيمة الأكيدة والإرادة القوية في الإقلاع عن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خطط لطريقة تقلع فيها عن التدخين كأن يكون تدريجياً أو فوريا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خبر أصدقائك ومن حولك أنك ستقلع أو أقلعت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ا ترتدْ الأماكن التي يكثر فيها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ستعمل السواك أو اللبان " العلك " إذا وجدت حنيناً ل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كثر من شرب الماء والعصير لتخفيف تركيز النيكوتين بالد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حاول زيارة طبيب مختص تستشير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غاز ثاني أكسيد الكربون سينخفض من جسمك بعد يومين من الإقلاع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ذكر أنك الآن أقلعت عن التدخين وأضراره وانظر لنفسك أنك شخص غير مدخ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ولغير المدخنين همس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خي في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حمد الله سبحانه وتعالى على أن عافاك من هذا البلاء وسلمت من أضراره ، ولكن بقي أن تعلم أن أولئك المدخنين كانوا من قبل أناس أصحاء لا يشربون الدخان ، بل إن بعضهم يكرهه كرهاً شديداً ، ومع ذلك إلا أنهم وقعوا في ما هم عليه الآن ، وما ذاك إلا لأنهم تساهلوا في بعض الأمور التي تؤدي إلى الوقوع في التدخين وم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بث ب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مجاملة أو حي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بدعوى التجرب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لوس في أماكن يشرب فيها 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غترار بفعل المشاهير لهذه العادة السيئ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258920" y="285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notype Koufi"/>
              </a:rPr>
              <a:t>حـــــوار مـــع مدخـــــــ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heel spokes="8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bbd71"/>
                </a:solidFill>
                <a:latin typeface="Arial"/>
                <a:cs typeface="Monotype Koufi"/>
              </a:rPr>
              <a:t>أخى فى الل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هل تسمى أو تذكر الله عندما تشرب الدخان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هل تقول الحمد لله عندما تنتهى من السيجارة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Book Antiqua"/>
              </a:rPr>
              <a:t>هل هناك مأكول أو مشروب تطأه بحذائك عندما تنتهى منه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يسرك أن ترى ابنتك أو ابنك يدخن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من السنة أن تفطر فى رمضان على سيجارة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blinds dir="horz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8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ntr" presetID="1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41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8100"/>
                            </p:stCondLst>
                            <p:childTnLst>
                              <p:par>
                                <p:cTn id="1048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إذا طلب منك أن تصنف المأكولات والمشروبات،إما من الطيبات وإما من الخبائث فأين تضع الدخان؟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ndale Mono"/>
              </a:rPr>
              <a:t>هل شرب الدخان من الصفات الحميدة التى تود أن يأخذها عنك أولادك؟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Simplified Arabic Backslanted"/>
              </a:rPr>
              <a:t>   إذا رآك أحد الملتزمين تشرب أو تأكل بيدك اليسرى فسوف يلفت نظرك لتستخدم اليد اليمنى...فهل سيفعل الشىء نفسه إذا رآك تدخن باليد اليسرى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circle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250"/>
                            </p:stCondLst>
                            <p:childTnLst>
                              <p:par>
                                <p:cTn id="106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8050"/>
                            </p:stCondLst>
                            <p:childTnLst>
                              <p:par>
                                <p:cTn id="10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Andalus"/>
              </a:rPr>
              <a:t>هل إهداء الرجل لأخيه سيجارة يدخل فى قوله صلى الله عليه وسلم: ”تهادوا تحابوا“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fffff"/>
                </a:solidFill>
                <a:latin typeface="Tahoma"/>
              </a:rPr>
              <a:t>هل يوجد أى طعام أو شراب غير الدخان يكتب على المنتج أنه ضار جدا بالصحة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كلفت نفسك مرة بالبحث عن تاريخ انتهاء صلاحية السيجارة؟ ولماذا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هل تعلم مدى تأثيرها على صلاحيتك الشخصي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strips dir="ld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9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0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ea typeface="Andalus"/>
              </a:rPr>
              <a:t> أنت تجادل وتقول : أنها ليست محرمة بل مكروهة..فمن قِِِِبَل من هى مكروهة إذن؟ وهل هناك عاقل يصر على أن يكون مكروها من الله ورسوله؟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Mudir MT"/>
              </a:rPr>
              <a:t>  أنت تدعى أنها من الصغائر وأنت تشرب عشرين سيجارة فى اليوم...ألا تعادل أو تقترب العشرين صغيرة من كبيرة واحد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comb dir="horz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1,53,-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6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نفق كل هذه الأموال على الدخان فى سرور،بينما أنت تصارع فى الحياة حتى تتمكن من الإنفاق على أهلك ؟أو  تتأفف من الصرف عليهم ؟ ماذا تسمى هذا التصرف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ن هو أقل بلاهة الشخص الذى يدفع المال لشراء الدخان وشربه و إلحاق الضرر بنفسه ،أم الشخص الذى يأخذ هذا المبلغ ويحرقه ويرميه فى القمامة 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pull dir="ld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42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جهزت إجابتك عندما يسألك رب العباد عن عدم التصدق على الفقراء واليتامى والجار الذى يتضور جوعاً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أم لم تعى جيداً قول الله عز وجل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يحلُّ لهم الطيبات ويحرم عليهم الخبائث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Andalus"/>
              </a:rPr>
              <a:t>“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(الأعراف: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57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وقوله سبحانه وتعالى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: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iwani"/>
              </a:rPr>
              <a:t>ولا تلقوا بأيديكم إلى التهلكة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“ (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Mudir MT"/>
              </a:rPr>
              <a:t>البقرة: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95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wheel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660"/>
                            </p:stCondLst>
                            <p:childTnLst>
                              <p:par>
                                <p:cTn id="115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660"/>
                            </p:stCondLst>
                            <p:childTnLst>
                              <p:par>
                                <p:cTn id="1165" nodeType="afterEffect" fill="hold" presetClass="entr" presetID="15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أخى</a:t>
            </a: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لا تخادع نفسك ولا تكابر فى قبول الحق ولا تتهرب من الحقيقة المرة وتوكل على الله وأقلع عن هذه الخبائث قبل أن يداهمك هادم اللذات حيث لا ينفع الند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Traditional Arabic Backslanted"/>
              </a:rPr>
              <a:t> ثم بعد ذلك عليك أن تكسب مزيدا من الثواب بأن تنصح أخاً واحدا على الأقل. وهذه فرصتك لتكسب صدقة جارية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Traditional Arabic Backslanted"/>
              </a:rPr>
              <a:t>جزانا الله وإياكم خير الثواب ورزقنا العافية فى الدنيا والآخرة 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7000">
    <p:newsflash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1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50"/>
                            </p:stCondLst>
                            <p:childTnLst>
                              <p:par>
                                <p:cTn id="1189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1550"/>
                            </p:stCondLst>
                            <p:childTnLst>
                              <p:par>
                                <p:cTn id="119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كان مدينة الرياض ينفقون أكثر م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ون ريال لحر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سيجارة سنوياً 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573360"/>
            <a:ext cx="8229600" cy="19432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تيب الدول المنتجة للدخان أمريكا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5,78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. ثم الص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524,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ثم زيمبابوي ثم البرازيل ثم تركيا ثم اليونان ثم أند ونسيا ... الخ . </a:t>
            </a:r>
            <a:r>
              <a:rPr b="1" lang="hi-IN" sz="3200" spc="-1" strike="noStrike">
                <a:solidFill>
                  <a:srgbClr val="ff0066"/>
                </a:solidFill>
                <a:latin typeface="Arial"/>
              </a:rPr>
              <a:t>تأمل في تلك الدول 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805360"/>
            <a:ext cx="2808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نبأ عد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حج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0</a:t>
            </a: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ه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2033280"/>
            <a:ext cx="8229600" cy="3916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ولانا الله وتول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من كل سوء وقانا ووق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آخر دعوانا أن الحمد لل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ب العالمين ،،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356000" y="260280"/>
            <a:ext cx="40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وختاماً: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در خسائر مستشفى الملك فيصل التخصصي ب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ار ريال خلا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500280"/>
            <a:ext cx="8229600" cy="122580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شخص يموتون سنوياً في السعودية بسبب التدخين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15772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ن سكان دول الخليج يدخنون 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% 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طلاب مدارس الثانوية يدخنون أيض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95280" y="2708280"/>
            <a:ext cx="82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 أجمل الحياة ! بدون تدخ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435640" y="404640"/>
            <a:ext cx="324000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77336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% من رواد السجون في ألمانيا من المدخنين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068640"/>
            <a:ext cx="8207280" cy="865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تعاطي التبغ هو البوابة الوحيدة لتعاطي المخد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36572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تدخين شيشة واحدة يساوي تدخين ماب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سيجا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445000"/>
            <a:ext cx="8207280" cy="792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 الجلوس مع مدخن يدخن أربع سجائر يعادل تناول سيجارة واحدة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95640" y="404640"/>
            <a:ext cx="439272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773360"/>
            <a:ext cx="8137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كونات تبغ الشيشة لا تخضع لأي مراقبة صحية عموما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141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قول الدكتور كنعان الجابي:" لقد مضى على معالجتي للسرط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فلم يأتني مصاباً بسرطان الحنجرة إلا مدخن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508640"/>
            <a:ext cx="8353440" cy="1873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دراسة أجريت بين المدخنين وغير المدخنين وأثبت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غير المدخن أقصر عمراً بسبع سنو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أثبت أن عدد السنين المفقودة = مجموع ساعات التدخ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95640" y="333360"/>
            <a:ext cx="439272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1627200"/>
            <a:ext cx="8353440" cy="15858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السعودية أكبر سوق للتبغ في الشرق الأوسط وأنها تحت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المركز الرابع في عدد المدخنين .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وط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/4/1422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573360"/>
            <a:ext cx="8353440" cy="1224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عدد المدخنين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سعودي ينفق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يوميا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ون ريال            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كا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/1/1422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157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كل يوم يشعل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ألف مدخن سيجارتهم الأولى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من المراهقين .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شوا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23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9:24:30Z</dcterms:created>
  <dc:creator>أحمد الخالدي</dc:creator>
  <dc:description/>
  <dc:language>en-US</dc:language>
  <cp:lastModifiedBy>ajmifd0a</cp:lastModifiedBy>
  <dcterms:modified xsi:type="dcterms:W3CDTF">2007-06-10T13:13:40Z</dcterms:modified>
  <cp:revision>30</cp:revision>
  <dc:subject>عرض عن التدخين</dc:subject>
  <dc:title>أضرار الدخان </dc:title>
</cp:coreProperties>
</file>