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9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9507-1772-4120-BBDA-35349E99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3842-570F-42BC-AD79-9633C738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5F29-768E-4979-B059-A0DB64BC5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7586-C9F1-45A3-8388-8C72CDD7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FA95-2B28-402A-B7FB-CAF0DDC4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128D-3F06-4A00-8102-787E5CCB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F187-2254-40FB-A8B3-5CEDC7D4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9313-C8B0-4383-A44F-09087A8E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92A7-8626-47D6-AC37-6EBDA551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C05B-DD81-4723-A9B3-86EF4F2A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790F-93AA-48D7-AA8D-0E00C004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4D93-41CE-4556-A080-FE05DDFA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3D56-FE26-43C6-B166-0DE33B77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A7DA-0C00-49AF-A81D-B785D5E4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6AFC-F2A8-4D80-9F97-66BD499D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2011-25CF-44C5-9AC6-15287F63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295E-95DD-4A85-8853-48B21C8F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2E68A-86DB-4370-819D-F9F01C33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51F95-7FF7-458B-995B-9940FF28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4D27A-5E0D-4E0E-849F-256C751F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45772-A5D8-4713-BFEC-2520A4C5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07E73-AF00-45B3-AFD5-AEC1E26B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D75D-06F1-41EA-9A57-C0B48EFE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04EE2-1621-4A8C-9FF6-B8F7884D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22276-60DD-413D-B77F-0C51854C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39277-CF20-4770-9B45-8AED1F61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ABF9D-A96B-47A2-92B9-835FF251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C9C76-8DDE-4D33-B718-0ED83130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D5577-C1A7-4E24-B3F2-0A08357D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85610-40CD-4953-AD4B-2A598F68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52E1-B214-4AFE-AC91-481FC711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9DAF-5AAC-44A0-AF4C-DA0A5718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7F89-3ABD-4732-A3BC-AF01EE0A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81AE-E3B2-467A-9A73-9DA7EC0F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49B6-DF5B-418D-BE57-13BC1813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806D-0F8F-4560-A4B9-DC8161C5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D0E2-60C1-40E7-92CD-4B03F0524B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4C43-F98C-478C-8E52-4A1169C619C4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B81C-0D8B-4682-9C5D-5D7118056765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00"/>
                </a:solidFill>
                <a:latin typeface="Arial"/>
              </a:rPr>
              <a:t>بسم الله الرحمن الرحيم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757760" y="1557360"/>
            <a:ext cx="3990960" cy="26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هكذا تملك السيجارة قلبك .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186080" cy="114300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99cc00"/>
              </a:gs>
              <a:gs pos="100000">
                <a:srgbClr val="ff00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مكونات السيجا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تكون السيجارة من عدة مركبات يصل عددها إلى أكثر م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ركب ، وأشدها ضرراً ، وأعظمها خطراً النيكوتين ، حيث يوجد منه من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مليجرام في كل سيجارة ، وأضراره ه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 أن النيكوتين يؤثر على أنسجة الجس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ن جراماً واحداً منه يكفي لقتل عشرة كلاب من الحجم الكبير دفعة واح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ن حقنة منه تقدر بسنتيمتر مكعب كافية لقتل حصان قوي في لحظات قليل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ن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مليجرام منه تقتل  الإنسان في لحظات إذا حقنت عن طريق الوري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6418080" cy="114300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</a:rPr>
              <a:t>أبيات شعرية حول التدخين 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3640" y="2924280"/>
            <a:ext cx="8435880" cy="22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كل البهائم والطيور تبـاعدت ... لم تستطع الأكل من أشجـار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كذا الحمام إذا رآه بقربـــــه ... ترك المكان وحاد عن أوكاره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النحل لم تأكله حال سلوكها ... أبداً ولم تنزل على أزهــــار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5300640"/>
            <a:ext cx="360036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فهل هذه المخلوقات أعقل من المدخن ؟؟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68360" y="189000"/>
            <a:ext cx="489564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19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لمدخن عبد رقيق لسيجارته ؟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>
    <p:random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5770440" cy="114300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سباب الوقوع في التدخين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4000" y="1844640"/>
            <a:ext cx="8505720" cy="144000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جريت العديد من الدراسات والاستبانات حول أسباب الوقوع في التدخين فكانت النتيجة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15280" y="3286080"/>
            <a:ext cx="2232000" cy="1582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رفقاء السو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06920" y="3213000"/>
            <a:ext cx="2232000" cy="1584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التجر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58920" y="3213000"/>
            <a:ext cx="2232000" cy="1584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غر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53080" y="4797360"/>
            <a:ext cx="2232000" cy="1582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رجول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25840" y="4869000"/>
            <a:ext cx="2954160" cy="1584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الجهل بضرر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4869000"/>
            <a:ext cx="2232000" cy="1584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وال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4520" y="3143160"/>
            <a:ext cx="523548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رئة مدخن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44000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علاقة التدخين بالانحرافات السلوكية وتقوية منازع الشر ؟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29600" cy="79056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50000">
                <a:srgbClr val="ffffff"/>
              </a:gs>
              <a:gs pos="100000">
                <a:srgbClr val="a8a1f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مرأة بدوية تمكن رجل من عرضها بسبب سيجارة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508640"/>
            <a:ext cx="3672000" cy="172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ذكرها الشيخ بن عثيمين رحمه الل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في مطوية اللجنة السعودية لحما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الشباب من التدخين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7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732720" y="189000"/>
            <a:ext cx="2016000" cy="1584360"/>
          </a:xfrm>
          <a:prstGeom prst="cloudCallout">
            <a:avLst>
              <a:gd name="adj1" fmla="val -161337"/>
              <a:gd name="adj2" fmla="val 55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تدخين والجنس ؟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1916280"/>
            <a:ext cx="8229600" cy="93636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50000">
                <a:srgbClr val="ffffff"/>
              </a:gs>
              <a:gs pos="100000">
                <a:srgbClr val="a8a1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لف بريطاني أعمارهم بي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عاماً يعانون من مشاكل جنسية مرتبطة بالتدخين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3500280"/>
            <a:ext cx="8229600" cy="57636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50000">
                <a:srgbClr val="ffffff"/>
              </a:gs>
              <a:gs pos="100000">
                <a:srgbClr val="a8a1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تدخين مضر بجميع أوجه الحياة الجنسية وخاصة القدرة على الإنجاب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4508640"/>
            <a:ext cx="8229600" cy="64764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50000">
                <a:srgbClr val="ffffff"/>
              </a:gs>
              <a:gs pos="100000">
                <a:srgbClr val="a8a1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حالة إصابة بسرطان الرحم سنوياً في بريطانيا للمدخن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" y="5589720"/>
            <a:ext cx="8229600" cy="64764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50000">
                <a:srgbClr val="ffffff"/>
              </a:gs>
              <a:gs pos="100000">
                <a:srgbClr val="a8a1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حالة إجهاض من التدخين السلبي في بريطانيا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50920" y="5445000"/>
            <a:ext cx="288108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2995560"/>
            <a:ext cx="8604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دعها فإنها منتنة ؟؟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2556000" y="0"/>
            <a:ext cx="6192720" cy="609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لتدخين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95280" y="476280"/>
            <a:ext cx="5040360" cy="28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طاعون العصر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0" y="3732120"/>
            <a:ext cx="3348000" cy="3125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4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148360" y="115920"/>
            <a:ext cx="3816360" cy="1728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تدخين وسوء الخاتم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3059640" y="403560"/>
            <a:ext cx="3024360" cy="7921440"/>
          </a:xfrm>
          <a:prstGeom prst="verticalScroll">
            <a:avLst>
              <a:gd name="adj" fmla="val 12500"/>
            </a:avLst>
          </a:prstGeom>
          <a:solidFill>
            <a:srgbClr val="a8a1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قال الشيخ محمد بن عبد اللطيف ” رحمه الل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سافرنا لمكة ومعنا رجل من قطر كثير الصلاة والخير إل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أنه يدخن فمات في الطريق فكفن فصرف وجهه عن القبل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وكلما وجهناه صرف وجهه عن القبل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5734080"/>
            <a:ext cx="27367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من كتاب تنبيه الغافلين ؟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5148360" y="115920"/>
            <a:ext cx="3816360" cy="1728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برة فهل من معتبر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1884240" y="-292320"/>
            <a:ext cx="5373720" cy="864072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شاب في الخامسة والعشرين من عمره ، ابتلي بشرب الدخان لعدة سنوات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ذات يوم أدخل المستشفى بسبب ألم مفاجئ وهو هبوط في القلب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ضع عدة أيام بغرفة العناية المركزة تحت مراقبة الأجهزة الطب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تطورة ، حيث أن الطبيب المشرف على علاجه أصدر أوامره لهيئ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تمريض بعدم إدخال الدخان للمذكور لأنه السبب الرئيسي لمرضه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تفتيش الزوار خوفاً من تسلل الدخان له خف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 .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حسنت صحته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بدأ يستعيد نشاطه . . إلا أنه لم يتقيد أخيراً بتعليمات الأطباء 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حيث عاد إلى التدخين ، وفي أحد الأيام فُقد هذا الشاب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بحثوا عنه فوجدوه في أحد الحمامات وقد فارق الحي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بيده سيجا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!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684360" y="692280"/>
            <a:ext cx="813564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من أجل صحتك قل الآن 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لا للتدخين 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0" y="3143160"/>
            <a:ext cx="845964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التدخين للأم يشوه الجنين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قل ماذا تدخن أقل لك من أنت ؟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43280" y="1600200"/>
            <a:ext cx="404352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دخ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تميز بروح المغامر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ثور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قليل الاستقام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شعر بالانقيا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غير مستقل العقل والمشاع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نطوائ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4000" y="1639800"/>
            <a:ext cx="3960720" cy="4525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غير مدخن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بحث عن الطمأنين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نسجم مع من حول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تأنِ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واثق بنفس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ستقر العقل والمشاع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نبساطي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 rot="17933400">
            <a:off x="-386280" y="1146240"/>
            <a:ext cx="3438360" cy="403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وهبك الله نوراً وصفاءً في قلبك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فلا تسوده بالتدخين ؟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179280" y="4653000"/>
            <a:ext cx="874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السواك خير بديل للسيجارة 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5770440" cy="63972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ضرار التدخين ؟؟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1341360"/>
            <a:ext cx="8505720" cy="93672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هي أكثر من أن تحصر ولعل من أبرزها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02520" y="263520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السرط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بأنواع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55640" y="256392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الضع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جن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92360" y="2492280"/>
            <a:ext cx="280692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مرض الس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37440" y="465300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تصلب الشراي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90560" y="472428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ضيق التنف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ربو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27280" y="4653000"/>
            <a:ext cx="280692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ضغط الد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8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8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8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8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8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27280" y="404640"/>
            <a:ext cx="4259160" cy="72576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ابع أضرار التدخين ؟؟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157800" y="1771560"/>
            <a:ext cx="280692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اجها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عند النس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1280" y="249228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موت الموالي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348000" y="162864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تشوه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للموال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337440" y="421956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جلطة الدمو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90560" y="4579920"/>
            <a:ext cx="280656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تهاب اللث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تشوه الأس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27280" y="4076640"/>
            <a:ext cx="2806920" cy="19447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حموض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987280" y="412560"/>
            <a:ext cx="5770440" cy="63972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ضرر التدخين اقتصادياً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87640" y="1268280"/>
            <a:ext cx="5770440" cy="63972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إذا كنت تدخن علبة يومياً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5280" y="2060640"/>
            <a:ext cx="8434440" cy="79200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فهذا يعني أنك تنف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ريال شهريا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3068640"/>
            <a:ext cx="8434440" cy="79200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ما سنوياً فإنفاقك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ريال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4005360"/>
            <a:ext cx="8434440" cy="136836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وخلال عشر سنوات ستنف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0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ثمانية عشر ألف ريال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5280" y="5516640"/>
            <a:ext cx="8434440" cy="792000"/>
          </a:xfrm>
          <a:prstGeom prst="rect">
            <a:avLst/>
          </a:prstGeom>
          <a:gradFill rotWithShape="0">
            <a:gsLst>
              <a:gs pos="0">
                <a:srgbClr val="a8a1f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6000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ريال خلال عشرين سن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0920" y="115920"/>
            <a:ext cx="1944720" cy="1440000"/>
          </a:xfrm>
          <a:prstGeom prst="cloudCallout">
            <a:avLst>
              <a:gd name="adj1" fmla="val 108939"/>
              <a:gd name="adj2" fmla="val 91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هل المدخن عاقل ؟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4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4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8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</a:rPr>
              <a:t>حقائق وأرقام 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29708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دد المدخنين في العالم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,100,000000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منهم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% رجال 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% نساء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3284640"/>
            <a:ext cx="8229600" cy="172872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أكثر من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ملايين شخص  يموتون سنوياً بسبب التدخين أي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400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يومياً 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60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كل ساعة 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كل دقيقة ، واحد كل ثان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5229360"/>
            <a:ext cx="8229600" cy="129672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حجم مبيعات السجائر في السعودية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مليار سيجارة في العام بقيمة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مليون دولار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6923160" cy="100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أمور المعينة على ترك التدخين ؟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147160" cy="4680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لاعتماد على الله سبحانه وتعالى والتوكل عليه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لرغبة الصادقة والعزيمة الأكيدة والإرادة القوية في الإقلاع عنه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خطط لطريقة تقلع فيها عن التدخين كأن يكون تدريجياً أو فوريا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أخبر أصدقائك ومن حولك أنك ستقلع أو أقلعت عن التدخي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لا ترتدْ الأماكن التي يكثر فيها التدخي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استعمل السواك أو اللبان " العلك " إذا وجدت حنيناً للتدخي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أكثر من شرب الماء والعصير لتخفيف تركيز النيكوتين بالد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حاول زيارة طبيب مختص تستشيره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غاز ثاني أكسيد الكربون سينخفض من جسمك بعد يومين من الإقلاع عن التدخي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تذكر أنك الآن أقلعت عن التدخين وأضراره وانظر لنفسك أنك شخص غير مدخ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132000" y="274320"/>
            <a:ext cx="5554800" cy="850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ولغير المدخنين همسة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خي في الل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حمد الله سبحانه وتعالى على أن عافاك من هذا البلاء وسلمت من أضراره ، ولكن بقي أن تعلم أن أولئك المدخنين كانوا من قبل أناس أصحاء لا يشربون الدخان ، بل إن بعضهم يكرهه كرهاً شديداً ، ومع ذلك إلا أنهم وقعوا في ما هم عليه الآن ، وما ذاك إلا لأنهم تساهلوا في بعض الأمور التي تؤدي إلى الوقوع في التدخين ومن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عبث بالدخا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شربه مجاملة أو حيا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شربه بدعوى التجرب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جلوس في أماكن يشرب فيها الدخا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اغترار بفعل المشاهير لهذه العادة السيئة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77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3" dur="770" fill="hold"/>
                                        <p:tgtEl>
                                          <p:spTgt spid="2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5" dur="77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7" dur="77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4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4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3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1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4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4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258920" y="285264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  <a:cs typeface="Monotype Koufi"/>
              </a:rPr>
              <a:t>حـــــوار مـــع مدخـــــــن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wheel spokes="8"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dbbd71"/>
                </a:solidFill>
                <a:latin typeface="Arial"/>
                <a:cs typeface="Monotype Koufi"/>
              </a:rPr>
              <a:t>أخى فى الله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Tahoma"/>
              </a:rPr>
              <a:t>هل تسمى أو تذكر الله عندما تشرب الدخان؟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ahoma"/>
                <a:cs typeface="Traditional Arabic"/>
              </a:rPr>
              <a:t>هل تقول الحمد لله عندما تنتهى من السيجارة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Book Antiqua"/>
              </a:rPr>
              <a:t>هل هناك مأكول أو مشروب تطأه بحذائك عندما تنتهى منه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Mudir MT"/>
              </a:rPr>
              <a:t>هل يسرك أن ترى ابنتك أو ابنك يدخن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Monotype Koufi"/>
              </a:rPr>
              <a:t>هل من السنة أن تفطر فى رمضان على سيجارة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blinds dir="horz"/>
  </p:transition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0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9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8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8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8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8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6" nodeType="afterEffect" fill="hold" presetClass="entr" presetID="5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4" nodeType="afterEffect" fill="hold" presetClass="entr" presetID="15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4100"/>
                            </p:stCondLst>
                            <p:childTnLst>
                              <p:par>
                                <p:cTn id="1041" nodeType="afterEffect" fill="hold" presetClass="entr" presetID="3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8100"/>
                            </p:stCondLst>
                            <p:childTnLst>
                              <p:par>
                                <p:cTn id="1048" nodeType="after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362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Mudir MT"/>
              </a:rPr>
              <a:t>إذا طلب منك أن تصنف المأكولات والمشروبات،إما من الطيبات وإما من الخبائث فأين تضع الدخان؟؟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ndale Mono"/>
              </a:rPr>
              <a:t>هل شرب الدخان من الصفات الحميدة التى تود أن يأخذها عنك أولادك؟؟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ea typeface="Simplified Arabic Backslanted"/>
              </a:rPr>
              <a:t>   إذا رآك أحد الملتزمين تشرب أو تأكل بيدك اليسرى فسوف يلفت نظرك لتستخدم اليد اليمنى...فهل سيفعل الشىء نفسه إذا رآك تدخن باليد اليسرى؟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5000">
    <p:circle/>
  </p:transition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0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4250"/>
                            </p:stCondLst>
                            <p:childTnLst>
                              <p:par>
                                <p:cTn id="1065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8050"/>
                            </p:stCondLst>
                            <p:childTnLst>
                              <p:par>
                                <p:cTn id="10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Andalus"/>
              </a:rPr>
              <a:t>هل إهداء الرجل لأخيه سيجارة يدخل فى قوله صلى الله عليه وسلم: ”تهادوا تحابوا“؟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ffffff"/>
                </a:solidFill>
                <a:latin typeface="Tahoma"/>
              </a:rPr>
              <a:t>هل يوجد أى طعام أو شراب غير الدخان يكتب على المنتج أنه ضار جدا بالصحة؟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Monotype Koufi"/>
              </a:rPr>
              <a:t>هل كلفت نفسك مرة بالبحث عن تاريخ انتهاء صلاحية السيجارة؟ ولماذا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وهل تعلم مدى تأثيرها على صلاحيتك الشخصية؟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5000">
    <p:strips dir="ld"/>
  </p:transition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0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8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8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8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56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10600"/>
                            </p:stCondLst>
                            <p:childTnLst>
                              <p:par>
                                <p:cTn id="1099" nodeType="after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4600"/>
                            </p:stCondLst>
                            <p:childTnLst>
                              <p:par>
                                <p:cTn id="1106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  <a:ea typeface="Andalus"/>
              </a:rPr>
              <a:t> أنت تجادل وتقول : أنها ليست محرمة بل مكروهة..فمن قِِِِبَل من هى مكروهة إذن؟ وهل هناك عاقل يصر على أن يكون مكروها من الله ورسوله؟؟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ea typeface="Mudir MT"/>
              </a:rPr>
              <a:t>  أنت تدعى أنها من الصغائر وأنت تشرب عشرين سيجارة فى اليوم...ألا تعادل أو تقترب العشرين صغيرة من كبيرة واحدة؟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comb dir="horz"/>
  </p:transition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0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2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1,53,-10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3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4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6" nodeType="afterEffect" fill="hold" presetClass="entr" presetID="23" presetSubtype="52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  <a:cs typeface="Monotype Koufi"/>
              </a:rPr>
              <a:t>كيف تنفق كل هذه الأموال على الدخان فى سرور،بينما أنت تصارع فى الحياة حتى تتمكن من الإنفاق على أهلك ؟أو  تتأفف من الصرف عليهم ؟ ماذا تسمى هذا التصرف 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ن هو أقل بلاهة الشخص الذى يدفع المال لشراء الدخان وشربه و إلحاق الضرر بنفسه ،أم الشخص الذى يأخذ هذا المبلغ ويحرقه ويرميه فى القمامة 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5000">
    <p:pull dir="ld"/>
  </p:transition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0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2800"/>
                            </p:stCondLst>
                            <p:childTnLst>
                              <p:par>
                                <p:cTn id="1142" nodeType="after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Mudir MT"/>
              </a:rPr>
              <a:t>هل جهزت إجابتك عندما يسألك رب العباد عن عدم التصدق على الفقراء واليتامى والجار الذى يتضور جوعاً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أم لم تعى جيداً قول الله عز وجل ”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يحلُّ لهم الطيبات ويحرم عليهم الخبائث</a:t>
            </a:r>
            <a:r>
              <a:rPr b="0" lang="ar-SA" sz="3600" spc="-1" strike="noStrike">
                <a:solidFill>
                  <a:srgbClr val="ffffff"/>
                </a:solidFill>
                <a:latin typeface="Tahoma"/>
                <a:ea typeface="Andalus"/>
              </a:rPr>
              <a:t>“ 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Mudir MT"/>
              </a:rPr>
              <a:t>(الأعراف: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Mudir MT"/>
              </a:rPr>
              <a:t>157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Mudir MT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Monotype Koufi"/>
              </a:rPr>
              <a:t>وقوله سبحانه وتعالى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  <a:ea typeface="Diwani"/>
              </a:rPr>
              <a:t>: ”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iwani"/>
              </a:rPr>
              <a:t>ولا تلقوا بأيديكم إلى التهلكة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  <a:ea typeface="Diwani"/>
              </a:rPr>
              <a:t>“ (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  <a:cs typeface="Mudir MT"/>
              </a:rPr>
              <a:t>البقرة: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  <a:ea typeface="Mudir MT"/>
              </a:rPr>
              <a:t>195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  <a:ea typeface="Diwani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5000">
    <p:wheel/>
  </p:transition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0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3660"/>
                            </p:stCondLst>
                            <p:childTnLst>
                              <p:par>
                                <p:cTn id="1158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1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8660"/>
                            </p:stCondLst>
                            <p:childTnLst>
                              <p:par>
                                <p:cTn id="1165" nodeType="afterEffect" fill="hold" presetClass="entr" presetID="15">
                                  <p:stCondLst>
                                    <p:cond delay="2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250920" y="765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4800" spc="-1" strike="noStrike">
                <a:solidFill>
                  <a:srgbClr val="ffffff"/>
                </a:solidFill>
                <a:latin typeface="Tahoma"/>
              </a:rPr>
              <a:t>أخى</a:t>
            </a:r>
            <a:r>
              <a:rPr b="0" i="1" lang="ar-SA" sz="4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لا تخادع نفسك ولا تكابر فى قبول الحق ولا تتهرب من الحقيقة المرة وتوكل على الله وأقلع عن هذه الخبائث قبل أن يداهمك هادم اللذات حيث لا ينفع الند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ea typeface="Traditional Arabic Backslanted"/>
              </a:rPr>
              <a:t> ثم بعد ذلك عليك أن تكسب مزيدا من الثواب بأن تنصح أخاً واحدا على الأقل. وهذه فرصتك لتكسب صدقة جارية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ahoma"/>
                <a:cs typeface="Traditional Arabic Backslanted"/>
              </a:rPr>
              <a:t>جزانا الله وإياكم خير الثواب ورزقنا العافية فى الدنيا والآخرة .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7000">
    <p:newsflash/>
  </p:transition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0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300"/>
                            </p:stCondLst>
                            <p:childTnLst>
                              <p:par>
                                <p:cTn id="1181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9550"/>
                            </p:stCondLst>
                            <p:childTnLst>
                              <p:par>
                                <p:cTn id="1189" nodeType="afterEffect" fill="hold" presetClass="entr" presetID="56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21550"/>
                            </p:stCondLst>
                            <p:childTnLst>
                              <p:par>
                                <p:cTn id="1196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تابع حقائق وأرقام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122544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سكان مدينة الرياض ينفقون أكثر من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مليون ريال لحر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ألف سيجارة سنوياً ؟؟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3573360"/>
            <a:ext cx="8229600" cy="194328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رتيب الدول المنتجة للدخان أمريكا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35,78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طن . ثم الصين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,524,5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طن ثم زيمبابوي ثم البرازيل ثم تركيا ثم اليونان ثم أند ونسيا ... الخ . </a:t>
            </a:r>
            <a:r>
              <a:rPr b="1" lang="hi-IN" sz="3200" spc="-1" strike="noStrike">
                <a:solidFill>
                  <a:srgbClr val="ff0066"/>
                </a:solidFill>
                <a:latin typeface="Arial"/>
              </a:rPr>
              <a:t>تأمل في تلك الدول ؟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5805360"/>
            <a:ext cx="280836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النبأ عد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الحجة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20</a:t>
            </a: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ه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7200" y="2033280"/>
            <a:ext cx="8229600" cy="39164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ولانا الله وتولا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ومن كل سوء وقانا ووقا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وآخر دعوانا أن الحمد لل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رب العالمين ،،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356000" y="260280"/>
            <a:ext cx="4032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وختاماً: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5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0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5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0" dur="1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تابع حقائق وأرقام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122544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قدر خسائر مستشفى الملك فيصل التخصصي ب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مليار ريال خلال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عاماً الماض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" y="3500280"/>
            <a:ext cx="8229600" cy="122580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ألف شخص يموتون سنوياً في السعودية بسبب التدخين 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5157720"/>
            <a:ext cx="8229600" cy="1225440"/>
          </a:xfrm>
          <a:prstGeom prst="rect">
            <a:avLst/>
          </a:prstGeom>
          <a:gradFill rotWithShape="0">
            <a:gsLst>
              <a:gs pos="0">
                <a:srgbClr val="f2ac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من سكان دول الخليج يدخنون 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% م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طلاب مدارس الثانوية يدخنون أيضا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038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395280" y="2708280"/>
            <a:ext cx="828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5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ما أجمل الحياة ! بدون تدخين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435640" y="404640"/>
            <a:ext cx="3240000" cy="100836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</a:rPr>
              <a:t>هل تعلم ؟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1773360"/>
            <a:ext cx="8207280" cy="792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أن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% من رواد السجون في ألمانيا من المدخنين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3068640"/>
            <a:ext cx="8207280" cy="86508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أن تعاطي التبغ هو البوابة الوحيدة لتعاطي المخدرا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4365720"/>
            <a:ext cx="8207280" cy="792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ن تدخين شيشة واحدة يساوي تدخين مابين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سيجا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5445000"/>
            <a:ext cx="8207280" cy="79236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ن الجلوس مع مدخن يدخن أربع سجائر يعادل تناول سيجارة واحدة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995640" y="404640"/>
            <a:ext cx="4392720" cy="100836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</a:rPr>
              <a:t>تابع هل تعلم ؟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1773360"/>
            <a:ext cx="8137440" cy="1008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مكونات تبغ الشيشة لا تخضع لأي مراقبة صحية عموما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3141720"/>
            <a:ext cx="8353440" cy="1008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يقول الدكتور كنعان الجابي:" لقد مضى على معالجتي للسرط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عاماً فلم يأتني مصاباً بسرطان الحنجرة إلا مدخن 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4508640"/>
            <a:ext cx="8353440" cy="187308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ن دراسة أجريت بين المدخنين وغير المدخنين وأثبت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ن غير المدخن أقصر عمراً بسبع سنوات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أثبت أن عدد السنين المفقودة = مجموع ساعات التدخ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995640" y="333360"/>
            <a:ext cx="4392720" cy="1008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</a:rPr>
              <a:t>تابع هل تعلم ؟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5280" y="1627200"/>
            <a:ext cx="8353440" cy="15858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السعودية أكبر سوق للتبغ في الشرق الأوسط وأنها تحت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المركز الرابع في عدد المدخنين .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وطن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/4/1422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ه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3573360"/>
            <a:ext cx="8353440" cy="1224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عدد المدخنين في السعودية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ملايين سعودي ينفقو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يومياً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,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مليون ريال             </a:t>
            </a: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عكا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/1/1422</a:t>
            </a: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ه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5157720"/>
            <a:ext cx="8353440" cy="1008000"/>
          </a:xfrm>
          <a:prstGeom prst="flowChartAlternateProcess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كل يوم يشعل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ألف مدخن سيجارتهم الأولى 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منهم من المراهقين . 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معرف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شوال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23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ه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9:24:30Z</dcterms:created>
  <dc:creator>أحمد الخالدي</dc:creator>
  <dc:description/>
  <dc:language>en-US</dc:language>
  <cp:lastModifiedBy>ajmifd0a</cp:lastModifiedBy>
  <dcterms:modified xsi:type="dcterms:W3CDTF">2007-06-10T13:13:40Z</dcterms:modified>
  <cp:revision>30</cp:revision>
  <dc:subject>عرض عن التدخين</dc:subject>
  <dc:title>أضرار الدخان </dc:title>
</cp:coreProperties>
</file>