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ER.WAV" ContentType="audio/x-wav"/>
  <Override PartName="/ppt/media/image2.wmf" ContentType="image/x-wmf"/>
  <Override PartName="/ppt/media/chimes.wav" ContentType="audio/x-wav"/>
  <Override PartName="/ppt/media/image1.wmf" ContentType="image/x-wmf"/>
  <Override PartName="/ppt/media/CHEEPCHP.WAV" ContentType="audio/x-wav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C56-431F-4C3B-82B1-38113CBC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0E1-F780-41C2-AE76-C8724639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EEB-1895-4839-A98C-035A4A9E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839-76D5-4C7C-B76B-477F6DAE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9CD4-9306-4152-B7E0-B4D17060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7671-C382-452F-92E4-2109E071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EDC5-4916-475E-B29E-99A6CE49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FE3C-4CA8-4B2A-87A9-DB4A2E98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F947-B88E-4B06-B1FD-0C0D6962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6808-80D2-4E2E-A5D3-3F5CFC52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2177-2311-4D53-8F09-87C366EB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F86-9136-4AFE-919B-086DCCE9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664B-5967-4247-9982-B27A5E6D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0955-7B83-434A-AF8C-701E5633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4350-32C4-4D0E-90C0-41ED3FF0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F2D8-AEC5-4CF6-8BED-6428CCA5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D6FB-E8B6-4F53-A8AA-EDEE7623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D74-F3DF-4285-82C9-DF7AE88D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1E5-BD0F-4CB8-B479-17ED7FAA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F2B-6E72-4019-B5DB-1B210F9C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241-D357-4CA7-B7A1-7C6E6857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111-A633-4993-BA41-89757F2D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F1B-8080-47CC-BEEA-DBB7EBEB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B07-0F74-4790-9ED4-C516CDF2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4FA3-F46F-41A7-8297-CB3CA0835F99}" type="slidenum">
              <a: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58E4-BCCF-4C75-B34C-2ED71FFB253A}" type="slidenum">
              <a: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E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EEPCHP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00360" y="189000"/>
            <a:ext cx="360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مهن مرتبطة بالعلوم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03280" y="2421000"/>
            <a:ext cx="5977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000000"/>
                </a:solidFill>
                <a:latin typeface="FS_Diwany"/>
              </a:rPr>
              <a:t>الخبــاز</a:t>
            </a:r>
            <a:endParaRPr b="1" lang="en-US" sz="6000" spc="1" strike="noStrike">
              <a:ln w="9360">
                <a:solidFill>
                  <a:srgbClr val="006666"/>
                </a:solidFill>
                <a:miter/>
              </a:ln>
              <a:solidFill>
                <a:srgbClr val="000000"/>
              </a:solidFill>
              <a:latin typeface="FS_Diwany"/>
              <a:ea typeface="FS_Diwan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42920" y="2637000"/>
            <a:ext cx="70549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الخبز واحد من أهم العناصر الأساسية والغذائية لدى معظم الشعوب منذ قرون طويلة، وفيما يعتبر أول الأطعمة، تعتبر حرفة الخباز من أول الحرف التي عرفتها البشرية</a:t>
            </a: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br>
              <a:rPr sz="2800"/>
            </a:b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38880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1628640"/>
            <a:ext cx="741528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وبالإمكان رؤية أرغفة الخبز القديمة التي كان ينتجها ويصنعها الفراعنة قبل </a:t>
            </a: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5000</a:t>
            </a: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 سنة شاهدة للعيان في المتحف البريطاني حتى الآن إلى جانب حبوب القمح التي كانت تزرع، تحصد وتجفف على ضفاف النيل</a:t>
            </a: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.</a:t>
            </a:r>
            <a:r>
              <a:rPr b="1" lang="ar-EG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40000" y="4749840"/>
            <a:ext cx="3817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42920" y="105264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يُمَارِسُ الْخَبَّازُ مِهْنَةً جَلِيلَةً. فَهوَ يُعِّدُ لنَا الْخُبْرَ الذي نَأكُلَهُ</a:t>
            </a: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يَخْلِطُ الْخَبَّازُ الْدَقِيقَ بِالْمَاءِ وبأشْيَاءَ أُخْرى لِعَمَل الْعَجِينِ، ويَتْرُكُهُ بَعْضَ الْوَقْتِ، حَتّى يُصْبِحَ جَاهِزًا لِلْخَبْزِ فِي الْفُرْنِ. الْحَرَارَةُ تُغَيِّرُ الْعَجِينَ بَعْدَ ذلكَ وَتجْعلُهُ خُبزًا</a:t>
            </a:r>
            <a:r>
              <a:rPr b="1" lang="ar-EG" sz="36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03640" y="4724280"/>
            <a:ext cx="3116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1844640"/>
            <a:ext cx="73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Times New Roman"/>
              </a:rPr>
              <a:t>الْمَخَابِزُ الْحَدِيثَةُ تَسْتَخْدِمُ أدَواتٍ وَتَقَنِياتٍ مُتَطَوِّرَةً لإعْدَادِ مَأكُولاتٍ كَثِيْرَةٍ وَمُتَنَوِعَةٍ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91" name="repArticles__ctl0_imgArticle" descr=""/>
          <p:cNvPicPr/>
          <p:nvPr/>
        </p:nvPicPr>
        <p:blipFill>
          <a:blip r:embed="rId1"/>
          <a:stretch/>
        </p:blipFill>
        <p:spPr>
          <a:xfrm>
            <a:off x="2411280" y="3860640"/>
            <a:ext cx="4125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8:17:34Z</dcterms:modified>
  <cp:revision>50</cp:revision>
  <dc:subject/>
  <dc:title>PowerPoint Presentation</dc:title>
</cp:coreProperties>
</file>