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EEPCHP.WAV" ContentType="audio/x-wav"/>
  <Override PartName="/ppt/media/music.wav" ContentType="audio/x-wav"/>
  <Override PartName="/ppt/media/image1.wmf" ContentType="image/x-wmf"/>
  <Override PartName="/ppt/media/BWINGING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852-0B55-4260-9A68-FE9C7052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DEF-D3E0-4431-B964-13D2645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4A9-2FEE-4EA4-8388-EA4E5CCA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B1C-F26D-4390-8E68-30F3DF3D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7DDD-0C92-439A-BF14-FCF737BB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111B-6CF9-4559-BB8E-3C3F434D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E8C-4557-4AA1-8DE7-8881B1A0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DFC4-41B5-4829-A959-A614815B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EFA8-4CBC-4458-9930-0125A1C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2BC0-CA12-425A-ADE4-1A0687BB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F0C6-70CF-4CA8-91E1-A10842E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A17-4FF8-48B2-8C30-862B5ED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4FD9-9CE6-4CC1-B899-A909CA47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A31-BF14-43A8-8E80-DBAAA25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73A-AF6C-4DB6-8E06-55793AC4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9BD6-6248-4DD4-A31A-AC85A0F0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E6F1-2AC0-4278-8118-FE5C5886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B2B-8A9D-4170-AED0-A854BF3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AC7-AB2D-4D60-BB95-794B9CA2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5CE-935F-40DA-8074-2726808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4F0-91ED-406C-85F8-9729479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849-2F3D-44CB-96BF-45665D5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94A-EDFF-44D7-9152-A818B3A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5DF-05D5-49C9-9691-8056F71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6FD2-DB5E-4B3C-8E33-4548960AEEC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9F60-8D4B-4857-9973-6F80B8273D3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WINGING.WAV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765000"/>
            <a:ext cx="367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لث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2997360"/>
            <a:ext cx="763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Hesham AlSharq"/>
              </a:rPr>
              <a:t>كتابة علمية ( تغير الفصول )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3280" y="115920"/>
            <a:ext cx="4680000" cy="907920"/>
          </a:xfrm>
          <a:custGeom>
            <a:avLst/>
            <a:gdLst>
              <a:gd name="textAreaLeft" fmla="*/ 736920 w 4680000"/>
              <a:gd name="textAreaRight" fmla="*/ 3943080 w 4680000"/>
              <a:gd name="textAreaTop" fmla="*/ 11340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اولى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7252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(  فصل الربيع ) :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637000"/>
            <a:ext cx="79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( فصل الشِّتاءُ) :  أَكْثَرُ الْفُصولِ بُرودَةً. يَكونُ الطَّقْسُ فِيْهِ مُشْمِسًا لِساعاتٍ قَليلَةٍ، وَتَتَسَاقَطُ فِيْه الأَمْطارُ، وَأَحْيانًا البَرَدُ والثُّلوج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5112000" cy="908280"/>
          </a:xfrm>
          <a:custGeom>
            <a:avLst/>
            <a:gdLst>
              <a:gd name="textAreaLeft" fmla="*/ 804960 w 5112000"/>
              <a:gd name="textAreaRight" fmla="*/ 4307040 w 5112000"/>
              <a:gd name="textAreaTop" fmla="*/ 113400 h 908280"/>
              <a:gd name="textAreaBottom" fmla="*/ 9086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ث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978840"/>
            <a:ext cx="82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وجه الأختلاف بين الصورت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أولى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ورود متفتحة والجو جميل و مشمس والسماء صاف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ثان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جو بارد والجليد يتساقط والاشجار ليست مزهر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836640"/>
            <a:ext cx="6624720" cy="93672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ر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34936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فى الربيع نلبس الملابس الخفيفة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WING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68720" y="3015720"/>
            <a:ext cx="118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ى فصل الشتاء نلبس الملابس الثقيل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052640"/>
            <a:ext cx="6624720" cy="93636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شتاء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38:28Z</dcterms:modified>
  <cp:revision>30</cp:revision>
  <dc:subject/>
  <dc:title>PowerPoint Presentation</dc:title>
</cp:coreProperties>
</file>