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cashreg.wav" ContentType="audio/x-wav"/>
  <Override PartName="/ppt/media/2.wav" ContentType="audio/x-wav"/>
  <Override PartName="/ppt/media/CHEEPCHP.WAV" ContentType="audio/x-wav"/>
  <Override PartName="/ppt/media/image3.jpeg" ContentType="image/jpeg"/>
  <Override PartName="/ppt/media/BINGBING.WAV" ContentType="audio/x-wav"/>
  <Override PartName="/ppt/media/image5.jpeg" ContentType="image/jpeg"/>
  <Override PartName="/ppt/media/suction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583-6FAC-4BA5-A30C-BBE5EE71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303-D089-4AC3-84BB-9D311DEA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5CE-5F70-43DB-B81F-85AF811A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9DD-0D44-4053-B79B-D5D63151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5415-FAEE-45D7-8E92-82542D39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8F6E-3FBD-4F0A-BD57-4F903E59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C919-D861-4D93-AD28-705B9184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12F8-1FFF-4C1B-9EB9-E4FFA634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4BA5-567E-40D6-9C1E-E3B8589A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B0C3-7194-4111-9E47-F89FA406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58EC-337C-4C2D-8A16-BA75A644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D5B-800B-42E2-BDC0-C1D0A964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62E1-5C34-49C7-85F4-3BEBA474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57B8-399A-4CA2-BD3D-F3739FDC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FFA8-4EEE-4187-8985-F61AF22F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DE76-B9E3-4079-9FBF-D9596D2C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981F-CDF3-44C1-ACE5-CDC98FD9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7A6-B814-41C5-8EAD-254C6E5D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50C-5129-4471-BF23-462692C7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FA6-BECB-46EA-8BED-ED213235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1A7-8E3C-4AF4-A4B1-6BA33F79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48B8-7CFF-4FDC-A59F-BA10E8C4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C75-18AC-4761-B420-CA41BB7E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C93A-0978-41BC-83A2-0C6886C4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2201-125D-45F2-AA1A-7E0FA15EB63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5544-6855-45F3-B6FF-AB86A12409D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audio" Target="../media/2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EEPCHP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BINGBING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916360" y="836640"/>
            <a:ext cx="3384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دوات علمية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3284640"/>
            <a:ext cx="81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>
                      <a:alpha val="70000"/>
                    </a:srgbClr>
                  </a:outerShdw>
                </a:effectLst>
                <a:latin typeface="Hesham Fostat"/>
              </a:rPr>
              <a:t>المنظــار</a:t>
            </a:r>
            <a:endParaRPr b="1" lang="en-US" sz="80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000000">
                    <a:alpha val="70000"/>
                  </a:srgbClr>
                </a:outerShdw>
              </a:effectLst>
              <a:latin typeface="Hesham Fostat"/>
              <a:ea typeface="Hesham Fost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3284640"/>
            <a:ext cx="853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اداة تساعدنا على رؤة الأشياء البعيدة جدا</a:t>
            </a:r>
            <a:r>
              <a:rPr b="0" lang="ar-SA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134136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ff"/>
                </a:solidFill>
                <a:latin typeface="Arial Narrow"/>
              </a:rPr>
              <a:t>المنظا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286704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5280" y="112536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ff"/>
                </a:solidFill>
                <a:latin typeface="Arial Narrow"/>
              </a:rPr>
              <a:t>استخدامات المنظار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171504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imes New Roman"/>
              </a:rPr>
              <a:t>يستخدم المنظار المختلفة لرؤية الكواكب والنجوم ومعرفة أشياء جديدة عنها حيث يعمل المنظار على تقريب الأشياء البعيدة الى درجة كبيرة جدا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56000" y="4508640"/>
            <a:ext cx="424944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INGB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32000" y="549360"/>
            <a:ext cx="6840360" cy="1439640"/>
          </a:xfrm>
          <a:custGeom>
            <a:avLst/>
            <a:gdLst>
              <a:gd name="textAreaLeft" fmla="*/ 855000 w 6840360"/>
              <a:gd name="textAreaRight" fmla="*/ 5985360 w 6840360"/>
              <a:gd name="textAreaTop" fmla="*/ 18000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8000"/>
                </a:solidFill>
                <a:latin typeface="Arial Narrow"/>
              </a:rPr>
              <a:t>أنواع المناظير</a:t>
            </a:r>
            <a:r>
              <a:rPr b="0" lang="ar-SA" sz="6000" spc="-1" strike="noStrike">
                <a:solidFill>
                  <a:srgbClr val="008000"/>
                </a:solidFill>
                <a:latin typeface="Arial Narrow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421000"/>
            <a:ext cx="874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يوجد انواع كثيرة من المناظير منها الكبير والصغير وتقسم حسب استخداماتها . وتوضع بعض المناظير فى الاقمار الصناعية</a:t>
            </a: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ar-SA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4707000"/>
            <a:ext cx="2303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2:16:29Z</dcterms:modified>
  <cp:revision>32</cp:revision>
  <dc:subject/>
  <dc:title>PowerPoint Presentation</dc:title>
</cp:coreProperties>
</file>