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BEEBIT.WAV" ContentType="audio/x-wav"/>
  <Override PartName="/ppt/media/CLICKER.WAV" ContentType="audio/x-wav"/>
  <Override PartName="/ppt/media/image2.wmf" ContentType="image/x-wmf"/>
  <Override PartName="/ppt/media/CHEEPCHP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91C2-AAEE-471D-871A-F84DED98D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6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72AB-7A78-4DA5-95BE-5B3CBB74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C650-9C7F-47D6-85F9-8CC14268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6159-127F-4CC0-9A16-4A8AB574B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1F70-4193-4CB1-84B1-D9CA48D86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8B8B-9987-4928-8986-23E73339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8B4D-32C9-4EDC-BB64-A90B03E2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C578-8356-43D5-A110-B138CBCE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FC3E-8718-43DC-9BCB-3AAC45AE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64A1-E3E3-49E5-9120-9CE53F0A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C016-9A27-4F58-806B-7C0764D0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064D-58AC-455A-AB76-A23C6CA0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E6E0-2102-4FA1-BB7E-70418143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6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FBA4-DF94-4F3D-8347-92BEB8B2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6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7468-A485-4998-8319-0EF4D391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F513-9872-4E1A-BB6E-FE7504EFA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3B7D-6856-4885-B317-404A0A49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10F9-6DCF-46A1-BA4C-314A8393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659E-E29F-41E6-8468-D2434AED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D7B0-8918-4820-8859-C5440478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7969-DA25-4CFA-B8E9-F8FD4867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DDC2-1258-463F-AC0F-B1E3B80A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524C-98C7-4178-9329-154A8EE9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6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4A8A-FF92-46FE-8966-51D338E9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601560" indent="-2314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25560" indent="-1850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96000" indent="-1850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66440" indent="-18504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66440" indent="-18504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66440" indent="-18504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66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08EC-404D-4588-BEFB-9156519AFA42}" type="slidenum">
              <a:rPr b="0" lang="ar-SA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66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44CE-5556-44B6-B80C-46C45FF93465}" type="slidenum">
              <a:rPr b="0" lang="ar-SA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BEEBIT.WAV"/><Relationship Id="rId3" Type="http://schemas.openxmlformats.org/officeDocument/2006/relationships/audio" Target="../media/CLICKER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EEPCHP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059280" y="765000"/>
            <a:ext cx="3136680" cy="9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الدرس الثانى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4360" y="2924280"/>
            <a:ext cx="7848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12600">
                  <a:solidFill>
                    <a:srgbClr val="000066"/>
                  </a:solidFill>
                  <a:miter/>
                </a:ln>
                <a:solidFill>
                  <a:srgbClr val="000066"/>
                </a:solidFill>
                <a:effectLst>
                  <a:outerShdw dist="153753" dir="2700000" blurRad="0" rotWithShape="0">
                    <a:srgbClr val="99ccff">
                      <a:alpha val="50000"/>
                    </a:srgbClr>
                  </a:outerShdw>
                </a:effectLst>
                <a:latin typeface="Hesham Gornata"/>
              </a:rPr>
              <a:t>كيف يبدو القمر </a:t>
            </a:r>
            <a:endParaRPr b="1" lang="en-US" sz="7200" spc="1" strike="noStrike">
              <a:ln w="12600">
                <a:solidFill>
                  <a:srgbClr val="000066"/>
                </a:solidFill>
                <a:miter/>
              </a:ln>
              <a:solidFill>
                <a:srgbClr val="000066"/>
              </a:solidFill>
              <a:effectLst>
                <a:outerShdw dist="153753" dir="2700000" blurRad="0" rotWithShape="0">
                  <a:srgbClr val="99ccff">
                    <a:alpha val="50000"/>
                  </a:srgbClr>
                </a:outerShdw>
              </a:effectLst>
              <a:latin typeface="Hesham Gornata"/>
              <a:ea typeface="Hesham Gornat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7370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EEBI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5640" y="1773360"/>
            <a:ext cx="73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66"/>
                </a:solidFill>
                <a:latin typeface="Times New Roman"/>
              </a:rPr>
              <a:t>الَْقمَرَ جِسْمٌ صَخْرِيٌّ يَدُوْرُ حَوْلَ الأَرْضِ.</a:t>
            </a:r>
            <a:endParaRPr b="0" lang="en-US" sz="7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03280" y="261000"/>
            <a:ext cx="69850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ff"/>
                </a:solidFill>
                <a:latin typeface="Times New Roman"/>
              </a:rPr>
              <a:t>ـ من أين ياتى نور القمر؟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Times New Roman"/>
              </a:rPr>
              <a:t>اَلْقَمَرُ لا يُصْدِرُ ضَوْءًا، لَكِنَّهُ يَبْدو مُنيرًا؛ لأَنَّ ضَوْءَ الشَّمْسِ يَسْقُطُ عَلَيْهِ. عِنْدَما يَدورُ الْقَمَرُ حَوْلَ الأَرْضِ يَتَغَيَّرُ شَكْلُ الجُزْءِ المُنِيْرِ مِنْهُ. لِهَذا، يَبْدُو الْقَمَرُ وَكَأَنَّ لَهُ أَشْكالاً مُخْتَلِفَةً</a:t>
            </a:r>
            <a:r>
              <a:rPr b="1" lang="ar-SA" sz="4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11280" y="2325600"/>
            <a:ext cx="7848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تُسَمَّى أَشْكَالُ الْقَمَرِ الْمُخْتَلِفَةُ أَطْوارًا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قال تعالى " والقمر قدرنه منازل حتى عاد كالعرجون القديم " يس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80800" y="1413000"/>
            <a:ext cx="508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ff00ff"/>
                </a:solidFill>
                <a:uFillTx/>
                <a:latin typeface="Times New Roman"/>
              </a:rPr>
              <a:t>أشكال القمر</a:t>
            </a:r>
            <a:r>
              <a:rPr b="1" lang="ar-SA" sz="6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316872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4000" y="150048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</a:rPr>
              <a:t>نَحْنُ نَرَى الشَّمْسَ تَطْلُعُ فِي الصَّبَاحِ، وَتَخْتَفي فِي المَساءِ. يَحْدُثُ ذَلِكَ لأنَّ الأَرْضَ تَدُوْرُ حَوْلً نَفْسِهَا أمَامَ الشَّمْسِ. هَذِهِ الحَرَكَةُ تُكَوِّنُ اللَّيْلَ وَالنَّهار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</a:rPr>
              <a:t>يُمْكِنُني مَعْرِفَةُ أَنَّ الأَرْضَ تَتَحَرَّكُ بِالنَّظَرِ إِلى الظِّلالِ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696960" y="495360"/>
            <a:ext cx="1073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00ff"/>
                </a:solidFill>
                <a:latin typeface="Times New Roman"/>
              </a:rPr>
              <a:t>ما سَبَبُ حُدُوْثِ النَّهارِ وَاللَّيْلِ؟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4365720"/>
            <a:ext cx="3989520" cy="2492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435640" y="4292640"/>
            <a:ext cx="37083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ns</cp:lastModifiedBy>
  <dcterms:modified xsi:type="dcterms:W3CDTF">2010-01-30T21:57:00Z</dcterms:modified>
  <cp:revision>38</cp:revision>
  <dc:subject/>
  <dc:title>PowerPoint Presentation</dc:title>
</cp:coreProperties>
</file>