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music.wav" ContentType="audio/x-wav"/>
  <Override PartName="/ppt/media/image3.wmf" ContentType="image/x-wmf"/>
  <Override PartName="/ppt/media/image5.wmf" ContentType="image/x-wmf"/>
  <Override PartName="/ppt/media/image6.wmf" ContentType="image/x-wmf"/>
  <Override PartName="/ppt/media/hammer.wav" ContentType="audio/x-wav"/>
  <Override PartName="/ppt/media/image7.wmf" ContentType="image/x-wmf"/>
  <Override PartName="/ppt/media/image8.wmf" ContentType="image/x-wmf"/>
  <Override PartName="/ppt/media/compress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C109-6130-4DB5-84AD-1C17C4BFC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395100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3DB0-B7CA-46C8-AE27-B4BED2A16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1632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12AA-10DC-4A86-B367-53BCA6C11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9448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472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9448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472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C6CA-829A-4027-870D-19EEEEE5A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13242-6BCD-47C3-9CDD-50F3BC5FE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63BE8-BEE6-4090-9BCD-34461BB21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44D0C-A4F4-45EC-8143-9DF5AFB36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B22AB-07AD-4136-8545-99A187128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2DBDF-20CE-4C56-BF7D-0010764B6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880" y="137160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4AB4D-0D69-4012-A7DD-9F0AD3192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D255E-FBE2-4A18-A9ED-E8EEA38A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4D85-EC2A-4B6B-9EF2-F307D47D9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1632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84BA7-990D-4B09-AC6C-3D175DFBA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1CADA-B90F-4DE8-9660-7EFC9FF37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880" y="395100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3131B-60D0-4350-B173-43E9379CE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1632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37E51-6255-4B46-BB35-8AD92A1A0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9448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6472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88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9448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6472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5034E-8D12-44A5-B926-0A7A5F882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4ED1-331C-4540-9824-F1C53D851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E87C-DDC0-488E-9595-431EE06DE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0744-06E0-4D77-8D8C-BF867AE28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137160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572E-F6E0-41EE-B5DF-E89258C40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C85F-D144-4577-A54D-4DBA6026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1632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DFD1-D680-47FB-BC84-4373D4DA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4108-3C99-423F-8B43-4C615C87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512640" indent="-196920">
              <a:spcBef>
                <a:spcPts val="799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2" marL="788400" indent="-15768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3" marL="1104120" indent="-157680">
              <a:spcBef>
                <a:spcPts val="799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4" marL="1419480" indent="-157680">
              <a:spcBef>
                <a:spcPts val="799"/>
              </a:spcBef>
              <a:buClr>
                <a:srgbClr val="a5002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5" marL="1419480" indent="-157680">
              <a:spcBef>
                <a:spcPts val="799"/>
              </a:spcBef>
              <a:buClr>
                <a:srgbClr val="a5002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6" marL="1419480" indent="-157680">
              <a:spcBef>
                <a:spcPts val="799"/>
              </a:spcBef>
              <a:buClr>
                <a:srgbClr val="a5002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a5002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a50021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5002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0021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a50021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9CAA9-E2D1-427A-9268-F11F2E0E0E87}" type="slidenum">
              <a:rPr b="0" lang="ar-SA" sz="1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a5002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a50021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5002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0021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a50021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92292-66B7-4071-85FD-FED95F64780E}" type="slidenum">
              <a:rPr b="0" lang="ar-SA" sz="1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a50021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a50021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a5002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a5002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music.wav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compress.wav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684360" y="1700280"/>
            <a:ext cx="7978680" cy="35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Hesham Cortoba"/>
              </a:rPr>
              <a:t>الدفع والسحب 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Hesham Cortoba"/>
              <a:ea typeface="Hesham Cortob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mus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11280" y="2708280"/>
            <a:ext cx="752472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000000"/>
                </a:solidFill>
                <a:latin typeface="Times New Roman"/>
              </a:rPr>
              <a:t>تَحْتاجُ الأَشْياءُ إِلى قُوَّةٍ ما لِتُحَرِّكَها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200" spc="-1" strike="noStrike">
              <a:solidFill>
                <a:srgbClr val="a5002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000000"/>
                </a:solidFill>
                <a:latin typeface="Times New Roman"/>
              </a:rPr>
              <a:t>الَقْوُةَّ هِيَ قُوَّةُ السَّحْبِ أَوْ قُوَّةُ الدَّفْعِ الَّتي تُحَرِّكُ الشَّيْءَ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22000" y="1413000"/>
            <a:ext cx="77414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600" spc="-1" strike="noStrike">
                <a:solidFill>
                  <a:srgbClr val="a50021"/>
                </a:solidFill>
                <a:latin typeface="Times New Roman"/>
              </a:rPr>
              <a:t>ما الّذي يُحَرِّكُ الأَشْياءَ؟</a:t>
            </a:r>
            <a:endParaRPr b="0" lang="en-US" sz="56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39640" y="4724280"/>
            <a:ext cx="3168720" cy="13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900000" y="2924280"/>
            <a:ext cx="6408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000000"/>
                </a:solidFill>
                <a:latin typeface="Times New Roman"/>
              </a:rPr>
              <a:t>تُحَرِّكُ قُوَّةُ الدَّفْعِ الشَّيْءَ بَعيداّ عَني، أَمّا قُوَّةُ السَّحْبِ فَتُحَرِّكُهُ بِاتَّجاهِي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89840" y="1341360"/>
            <a:ext cx="63788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a50021"/>
                </a:solidFill>
                <a:latin typeface="Times New Roman"/>
              </a:rPr>
              <a:t>قوة الدفع وقوة السحب</a:t>
            </a:r>
            <a:r>
              <a:rPr b="1" lang="ar-SA" sz="42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124000" y="4437000"/>
            <a:ext cx="410364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851280" y="411120"/>
            <a:ext cx="43578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a50021"/>
                </a:solidFill>
                <a:latin typeface="Times New Roman"/>
              </a:rPr>
              <a:t>عِنْدَما أتْرُكُ البَيضَةَ فإنَّها تَسْقُطُ، لأن الْجاذِبِيَّةَ تَسْحَبُهُا إِلى الأَرْضِ.</a:t>
            </a:r>
            <a:endParaRPr b="0" lang="en-US" sz="42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403280" y="3716280"/>
            <a:ext cx="5905440" cy="26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971640" y="1484280"/>
            <a:ext cx="712944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a50021"/>
                </a:solidFill>
                <a:latin typeface="Times New Roman"/>
              </a:rPr>
              <a:t>اَلْجاذِبِيَّةُ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</a:rPr>
              <a:t> هِيَ الْقُوَّةُ الَّتي تَسْحَبُ الأَشْياءَ بِاتِّجاهِ الأَرْضِ. وولجاذبية مجموعة من القوانين وضعها العالم الكبير اسحق نيوتن .</a:t>
            </a:r>
            <a:endParaRPr b="0" lang="en-US" sz="42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340000" y="3860640"/>
            <a:ext cx="3168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826920" y="2421000"/>
            <a:ext cx="7236000" cy="35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Times New Roman"/>
              </a:rPr>
              <a:t>تَخْتَلِفُ حَرَكَةُ الأَشْياءِ بِحَسَبِ مِقْدَارِ سَحْبِها، أَوْ مِقْدارِ دَفْعِها. يَحْتاجُ اَلشَّيْءُ الْخَفيفُ إِلى قُوَّةِ دَفْعٍ صَغِيرةٍ لِيَتَحَرَّكَ</a:t>
            </a:r>
            <a:r>
              <a:rPr b="1" lang="ar-SA" sz="3800" spc="-1" strike="noStrike">
                <a:solidFill>
                  <a:srgbClr val="000000"/>
                </a:solidFill>
                <a:latin typeface="Times New Roman"/>
              </a:rPr>
              <a:t>،</a:t>
            </a:r>
            <a:endParaRPr b="0" lang="en-US" sz="3800" spc="-1" strike="noStrike">
              <a:solidFill>
                <a:srgbClr val="a5002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Times New Roman"/>
              </a:rPr>
              <a:t>بَيْنَما يَحْتَاجُ الشَّيْءُ الثَّقيلُ إِلى قُوَّةِ دَفْعٍ أَكْبَرَ لِيَتَحَرَّكَ</a:t>
            </a:r>
            <a:r>
              <a:rPr b="1" lang="ar-SA" sz="3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07400" y="1052640"/>
            <a:ext cx="68742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600" spc="-1" strike="noStrike">
                <a:solidFill>
                  <a:srgbClr val="a50021"/>
                </a:solidFill>
                <a:latin typeface="Times New Roman"/>
              </a:rPr>
              <a:t>كَيْفَ تَخْتَلِفُ الْقُوَى؟</a:t>
            </a:r>
            <a:endParaRPr b="0" lang="en-US" sz="56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95280" y="5013360"/>
            <a:ext cx="280836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835280" y="981000"/>
            <a:ext cx="6838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000000"/>
                </a:solidFill>
                <a:latin typeface="Times New Roman"/>
              </a:rPr>
              <a:t>قُوَّةُ الدَّفْعِ الْكَبيرَةُ تُحَرِّكُ الشَّيْءَ بِسُرْعَةٍ أَكْبَرَ وَلِمَسافَةٍ أَطْوَلَ مِنْ قُوَّةِ الْدَّفْعِ الصَّغيرَةِ</a:t>
            </a:r>
            <a:r>
              <a:rPr b="1" lang="en-US" sz="42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763640" y="3500280"/>
            <a:ext cx="5329440" cy="23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mpre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2852640"/>
            <a:ext cx="774072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000000"/>
                </a:solidFill>
                <a:latin typeface="Times New Roman"/>
              </a:rPr>
              <a:t>هَلَ سَبَقَ لك أَنْ حَكَكَتَ أَقْدَامَكَ عَلى الأَرْضِ لتبطئ حَرَكَةَ المزلاجة؟ هَذا هُوَ الاِحْتِكاكُ. اَلاِحْتِكاكُ هُوَ الْقُوَّةُ الَّتي تُبَطِّئُ حَرَكَةَ الأَشْياءِ</a:t>
            </a:r>
            <a:r>
              <a:rPr b="1" lang="ar-SA" sz="4200" spc="-1" strike="noStrike">
                <a:solidFill>
                  <a:srgbClr val="a50021"/>
                </a:solidFill>
                <a:latin typeface="Times New Roman"/>
              </a:rPr>
              <a:t>.</a:t>
            </a:r>
            <a:r>
              <a:rPr b="1" lang="en-US" sz="42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53360" y="1052640"/>
            <a:ext cx="23630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a50021"/>
                </a:solidFill>
                <a:latin typeface="Times New Roman"/>
              </a:rPr>
              <a:t>الاحتكاك</a:t>
            </a:r>
            <a:endParaRPr b="0" lang="en-US" sz="42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OrPiOnE</cp:lastModifiedBy>
  <dcterms:modified xsi:type="dcterms:W3CDTF">2006-12-30T10:02:12Z</dcterms:modified>
  <cp:revision>51</cp:revision>
  <dc:subject/>
  <dc:title>PowerPoint Presentation</dc:title>
</cp:coreProperties>
</file>