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uction.wav" ContentType="audio/x-wav"/>
  <Override PartName="/ppt/media/image6.jpeg" ContentType="image/jpeg"/>
  <Override PartName="/ppt/media/CLICKER.WAV" ContentType="audio/x-wav"/>
  <Override PartName="/ppt/media/image2.wmf" ContentType="image/x-wmf"/>
  <Override PartName="/ppt/media/image1.wmf" ContentType="image/x-wmf"/>
  <Override PartName="/ppt/media/water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D3B-D838-4475-A23A-C844595B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F54-DF02-432E-BB9D-22F60002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2FE-AAEE-4B27-96AD-8A52B868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FF5-18A6-46E3-9FED-6B2A4602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CFB1-7D4F-41F9-A219-30097657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B6E4-EAFE-4AE5-A7B4-37C4C72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A326-448D-436F-A764-051EB0E8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AD42-3863-4747-935B-871E6BA9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FE54-7AC1-4F47-83C1-D475929F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124D-A080-46AB-9C26-12398AE7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C2A2-BA8D-4D71-BCF1-2A6EA8FA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C88-6F2C-4CA5-A62E-B548D88C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4C10-EEB1-4394-9295-6BB10827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49DF-2ECB-47D8-9C41-9E15BA52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8B74-50C3-41B6-B368-2FA37A98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4F2C-7803-4AF8-AB6B-68B686A9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F19E-843F-4082-824E-36E90FE8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B42-7D93-446D-B115-705DB66A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D71-F8B1-4C8A-8F14-079F3953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31A-3E06-4A15-A9A0-76002486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A52-0306-48A1-9972-4BE91515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F13-4378-44E4-AE8B-456D7A29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6B8-074D-49F7-9808-8C6E598D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0C7-607A-4971-A440-189834A5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EADA-6588-4DC8-AC0D-DA9056A175C6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7A99-66DE-4F99-91BC-17C95D36262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CLICKER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ater.wav"/><Relationship Id="rId3" Type="http://schemas.openxmlformats.org/officeDocument/2006/relationships/audio" Target="../media/wate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domiatwindow.net/images/articles/aF0TA2t55cFt.bmp&amp;imgrefurl=http://domiatwindow.net/articles.php%3Fid%3D241&amp;usg=__kJxymtL7r9Jk1FG_UB3kEIJ6qRo=&amp;h=420&amp;w=337&amp;sz=416&amp;hl=ar&amp;start=8&amp;tbnid=eIicBymXKMLk2M:&amp;tbnh=125&amp;tbnw=100&amp;prev=/images%3Fq%3D%25D9%2581%25D8%25B5%25D9%2584%2B%25D8%25A7%25D9%2584%25D8%25B5%25D9%258A%25D9%2581%26gbv%3D2%26hl%3Dar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eg/imgres?imgurl=http://www.alawael-magazine.com/site_image/Summer%2520Session%2520picture.bmp&amp;imgrefurl=http://www.alawael-magazine.com/page_view.php%3Fid%3D192&amp;usg=__RWuxhxgOKnvKgaTRT9hip1fFLUs=&amp;h=358&amp;w=360&amp;sz=127&amp;hl=ar&amp;start=1&amp;tbnid=3ddLrsnl6861UM:&amp;tbnh=120&amp;tbnw=121&amp;prev=/images%3Fq%3D%25D9%2581%25D8%25B5%25D9%2584%2B%25D8%25A7%25D9%2584%25D8%25B5%25D9%258A%25D9%2581%26gbv%3D2%26hl%3Dar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members.abunawaf.com/balot/GRD3/40.jpg&amp;imgrefurl=http://www.abunawaf.com/post-5517.html&amp;usg=__IEC5cyIqzba2_j6ruLPQLQdPuow=&amp;h=600&amp;w=800&amp;sz=51&amp;hl=ar&amp;start=3&amp;um=1&amp;tbnid=mbTVnlx7ISEwcM:&amp;tbnh=107&amp;tbnw=143&amp;prev=/images%3Fq%3D%25D9%2581%25D8%25B5%25D9%2584%2B%25D8%25A7%25D9%2584%25D8%25B4%25D8%25AA%25D8%25A7%25D8%25A1%26hl%3Dar%26sa%3DN%26um%3D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.eg/imgres?imgurl=http://www.shlahi.com/vb/uploaded/490_1203681119.gif&amp;imgrefurl=http://mfhom.com/vb/t24894.html&amp;usg=__KI9OV0Bl5FNFjIZnIMtTmpKtRqY=&amp;h=640&amp;w=480&amp;sz=783&amp;hl=ar&amp;start=12&amp;um=1&amp;tbnid=NAhkNa9GbVGTKM:&amp;tbnh=137&amp;tbnw=103&amp;prev=/images%3Fq%3D%25D8%25A3%25D9%2585%25D8%25B7%25D8%25A7%25D8%25B1%26hl%3Dar%26um%3D1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348000" y="115920"/>
            <a:ext cx="2997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Impact"/>
              </a:rPr>
              <a:t>الدرس الثانى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2779560"/>
            <a:ext cx="8136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ffffcc"/>
                    </a:gs>
                    <a:gs pos="100000">
                      <a:srgbClr val="3333cc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Hesham Bold"/>
              </a:rPr>
              <a:t>الفصول الأربعة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ffffcc"/>
                  </a:gs>
                  <a:gs pos="100000">
                    <a:srgbClr val="3333cc"/>
                  </a:gs>
                </a:gsLst>
                <a:lin ang="810000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Hesham Bold"/>
              <a:ea typeface="Hesham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40000" y="98100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ما الفصول الأربعة 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133720"/>
            <a:ext cx="813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يتغير الطقس خلال السنة فى كثير من الأماكن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4753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2084040"/>
            <a:ext cx="799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ـ يكون الطقس مشمسا  لِساعاتٍ طَويلَةٍ، فيُدْفِئُ الْيابِسَةَ وَالْهَواءَ وَالْماءَ. وتَنْمُو النَّباتاتُ. وَيَتوافَرُ لِلْحَيَواناتِ طَعامٌ كَثيرٌ. وَتَنْموَ صِغارُها، وَتُصْبِحُ أَكْبَرَ وَأَقْوى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80840" y="765000"/>
            <a:ext cx="489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Times New Roman"/>
              </a:rPr>
              <a:t>فصل الربيع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0876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91736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: الصيف هو فصل من فصول السنة الأربعة وهو أشد الفصول حرارة, يبدأ من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2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يونيو وينتهي في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2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 سبتمبر في البلاد الواقعة شمال خط الأستواء, ويبدأ في ديسمبر وينتهي في مارس في البلاد الواقعة جنوب خط الأستوا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5800" y="105264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صل الصيَّف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5013360"/>
            <a:ext cx="2232000" cy="158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18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71640" y="2228760"/>
            <a:ext cx="69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يَكونُ الطَّقْسُ مُشْمِسًا لِساعاتٍ أَقَلَّ مِنَ الصَّيْفِ، وَيُصْبِحُ الطَّقْسُ أَقَلَّ حَرَارَةً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69120" y="1000080"/>
            <a:ext cx="508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فصل الْخَريف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4508640"/>
            <a:ext cx="33112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3044520"/>
            <a:ext cx="6770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أَكْثَرُ الْفُصولِ بُرودَةً. يَكونُ الطَّقْسُ فِيْهِ مُشْمِسًا لِساعاتٍ قَليلَةٍ، وَتَتَسَاقَطُ فِيْه الأَمْطارُ، وَأَحْيانًا البَرَدُ والثُّلوجُ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48120" y="476280"/>
            <a:ext cx="46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فصل الشِّتاء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628640"/>
            <a:ext cx="20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1484280"/>
            <a:ext cx="1657440" cy="130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916360" y="1557360"/>
            <a:ext cx="280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28:46Z</dcterms:modified>
  <cp:revision>37</cp:revision>
  <dc:subject/>
  <dc:title>PowerPoint Presentation</dc:title>
</cp:coreProperties>
</file>