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326A-21A3-48AE-A74C-B23784B1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E8AF-C58B-467D-A004-0C0B1293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CEA6-6B59-42AE-A703-B961DEA5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9CF-01AC-473A-B113-BA5864EA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1636-D826-4A6D-9764-6CD43F1A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80F5-EF77-44C0-8D78-B86077FE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82F2-4473-44A9-9DCA-3A9380C4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6598-5329-4C9D-B96B-A9423345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D684-3FB4-46B7-9EF5-F6D03312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879E-5FC3-4E4E-9EB4-78FCB7EF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EF44-A8E7-43E3-9C21-CC39CA0B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AAA-16FC-48B7-B799-2CDD8048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5635-A153-4522-B01B-99AC9318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4BE0-62F0-46DD-8552-B2A9C5AF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EFC1-9647-47AC-BCF8-96C7FF9D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48C4-ADB2-4176-B9FC-3D1B2D2B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417A-7387-4ED4-9B7D-863B0B2B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4EB-C006-4BB5-838B-C36507CA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9F2-BF0A-47AC-A93A-C9C496E9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4D5-BAA3-4851-86D4-42BDCE85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879-E49D-47AF-84F9-0B3FD3F7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644-2982-4E98-BD72-9BE5E64D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5CA4-5157-4DF2-875A-052CE1C0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BAB2-83A7-4D55-8B48-33CEE1BC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B788-25A7-497A-960D-6015C2E576FE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6CD4-F359-4A7C-9388-EA227BF03E89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.wikipedia.org/wiki/&#1606;&#1602;&#1591;&#1577;_&#1575;&#1606;&#1589;&#1607;&#1575;&#1585;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411280" y="981000"/>
            <a:ext cx="4321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الدرس الثالث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16000" y="3500280"/>
            <a:ext cx="7273800" cy="201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ffcccc">
                      <a:alpha val="50000"/>
                    </a:srgbClr>
                  </a:outerShdw>
                </a:effectLst>
                <a:latin typeface="Hesham Cortoba"/>
              </a:rPr>
              <a:t>( </a:t>
            </a:r>
            <a:r>
              <a:rPr b="0" lang="hi-I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ffcccc">
                      <a:alpha val="50000"/>
                    </a:srgbClr>
                  </a:outerShdw>
                </a:effectLst>
                <a:latin typeface="Hesham Cortoba"/>
              </a:rPr>
              <a:t>الحرارة تغير المادة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ffcccc">
                      <a:alpha val="50000"/>
                    </a:srgbClr>
                  </a:outerShdw>
                </a:effectLst>
                <a:latin typeface="Hesham Cortoba"/>
              </a:rPr>
              <a:t>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ffcccc">
                      <a:alpha val="50000"/>
                    </a:srgbClr>
                  </a:outerShdw>
                </a:effectLst>
                <a:latin typeface="Hesham Cortoba"/>
              </a:rPr>
              <a:t>)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ffcccc">
                    <a:alpha val="50000"/>
                  </a:srgbClr>
                </a:outerShdw>
              </a:effectLst>
              <a:latin typeface="Hesham Cortoba"/>
              <a:ea typeface="Hesham Cortob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2637000"/>
            <a:ext cx="864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يُمْكِنُنِي تَغْييرُ الْماءِ مِنْ سائِلٍ إِلى صُلْبٍ. عِنْدَما يَبْرُدُ الْماءُ كَثيرًا، فَإِنَّهُ يَتَجَمَّدُ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968760" y="1363680"/>
            <a:ext cx="104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3399"/>
                </a:solidFill>
                <a:latin typeface="Times New Roman"/>
              </a:rPr>
              <a:t>كَيْفُ تَتَغَيَّرُ الْمَوادُّ الصُّلْبَةُ وَالسَّوائِلُ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32004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549360"/>
            <a:ext cx="6912000" cy="1584360"/>
          </a:xfrm>
          <a:custGeom>
            <a:avLst/>
            <a:gdLst>
              <a:gd name="textAreaLeft" fmla="*/ 865080 w 6912000"/>
              <a:gd name="textAreaRight" fmla="*/ 6046920 w 6912000"/>
              <a:gd name="textAreaTop" fmla="*/ 19800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9" y="0"/>
                </a:lnTo>
                <a:arcTo wR="675" hR="675" stAng="16200000" swAng="5400000"/>
                <a:lnTo>
                  <a:pt x="5404" y="2700"/>
                </a:lnTo>
                <a:lnTo>
                  <a:pt x="16196" y="2700"/>
                </a:lnTo>
                <a:lnTo>
                  <a:pt x="16196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896" y="18900"/>
                </a:lnTo>
                <a:lnTo>
                  <a:pt x="18896" y="20925"/>
                </a:lnTo>
                <a:arcTo wR="675" hR="675" stAng="0" swAng="5400000"/>
                <a:lnTo>
                  <a:pt x="3379" y="21600"/>
                </a:lnTo>
                <a:arcTo wR="675" hR="675" stAng="5400000" swAng="5400000"/>
                <a:lnTo>
                  <a:pt x="2704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4" y="675"/>
                </a:moveTo>
                <a:arcTo wR="675" hR="675" stAng="0" swAng="5400000"/>
                <a:lnTo>
                  <a:pt x="3379" y="1350"/>
                </a:lnTo>
                <a:arcTo wR="675" hR="675" stAng="16200000" swAng="-5400000"/>
                <a:arcTo wR="675" hR="675" stAng="10800000" swAng="-5400000"/>
                <a:lnTo>
                  <a:pt x="5404" y="2700"/>
                </a:lnTo>
              </a:path>
              <a:path fill="none" w="21600" h="21600">
                <a:moveTo>
                  <a:pt x="16196" y="675"/>
                </a:moveTo>
                <a:arcTo wR="675" hR="675" stAng="10800000" swAng="-5400000"/>
                <a:lnTo>
                  <a:pt x="18221" y="1350"/>
                </a:lnTo>
                <a:arcTo wR="675" hR="675" stAng="16200000" swAng="5400000"/>
                <a:arcTo wR="675" hR="675" stAng="0" swAng="5400000"/>
                <a:lnTo>
                  <a:pt x="16196" y="2700"/>
                </a:lnTo>
              </a:path>
              <a:path fill="none" w="21600" h="21600">
                <a:moveTo>
                  <a:pt x="2704" y="2025"/>
                </a:moveTo>
                <a:lnTo>
                  <a:pt x="2704" y="18900"/>
                </a:lnTo>
              </a:path>
              <a:path fill="none" w="21600" h="21600">
                <a:moveTo>
                  <a:pt x="18896" y="2025"/>
                </a:moveTo>
                <a:lnTo>
                  <a:pt x="18896" y="18900"/>
                </a:lnTo>
              </a:path>
            </a:pathLst>
          </a:custGeom>
          <a:gradFill rotWithShape="0">
            <a:gsLst>
              <a:gs pos="0">
                <a:srgbClr val="ffcccc"/>
              </a:gs>
              <a:gs pos="50000">
                <a:srgbClr val="ff9900"/>
              </a:gs>
              <a:gs pos="100000">
                <a:srgbClr val="ffcccc"/>
              </a:gs>
            </a:gsLst>
            <a:lin ang="81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000000"/>
                </a:solidFill>
                <a:latin typeface="Times New Roman"/>
              </a:rPr>
              <a:t>التَّجَمُّدُ</a:t>
            </a:r>
            <a:r>
              <a:rPr b="1" lang="ar-EG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249228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هُوَ تَحَوُّلُ السَّائِلِ إِلَى صُلْبٍ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يُمْكِنُ إِعادَةُ الْماءِ الْمُتَجَمِّدِ إِلى سائِلٍ. تَنْصَهِرُ الْمادَّةُ الصُّلْبَةُ عِنْدَ تَسْخينِها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3578400"/>
            <a:ext cx="1551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79640" y="4724280"/>
            <a:ext cx="4897440" cy="1892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4941720"/>
            <a:ext cx="144468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27664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Times New Roman"/>
              </a:rPr>
              <a:t>هُوَ تَحَوُّلُ الصُّلْبِ إلى سائِلٍ.</a:t>
            </a:r>
            <a:r>
              <a:rPr b="1" lang="ar" sz="3600" spc="-1" strike="noStrike">
                <a:solidFill>
                  <a:srgbClr val="ffffff"/>
                </a:solidFill>
                <a:latin typeface="Times New Roman"/>
              </a:rPr>
              <a:t> ويحدث الانصهار عند درجة الحرارة التي يتواجد عندها الطور الصلب والسائل للمادة النقية في حالة توازن. عند الوصول إلى </a:t>
            </a:r>
            <a:r>
              <a:rPr b="0" lang="ar" sz="36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نقطة الانصهار</a:t>
            </a:r>
            <a:r>
              <a:rPr b="1" lang="ar" sz="3600" spc="-1" strike="noStrike">
                <a:solidFill>
                  <a:srgbClr val="ffffff"/>
                </a:solidFill>
                <a:latin typeface="Times New Roman"/>
              </a:rPr>
              <a:t> سيؤدي المزيد من الحرارة إلى تحول الجسم الصلب إلى سائل بدون تغير في درجة الحرارة. عند ذوبان جميع المادة الصلبة، فإن الحرارة الإضافية سوف ترفع درجة حرارة السائ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692280"/>
            <a:ext cx="314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3399"/>
                </a:solidFill>
                <a:latin typeface="Times New Roman"/>
              </a:rPr>
              <a:t>الَانِْصِهارُ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2637000"/>
            <a:ext cx="860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Times New Roman"/>
              </a:rPr>
              <a:t>عِنْدَ تَسْخينِ الْماءِ فإنَّ بَعْضَه يَتَبَخَّرُ. وعند تبريد الماء فإنه يتجمد وعند تسخين الجليد فإنه يتحول الى ماء مرة أخرى</a:t>
            </a:r>
            <a:r>
              <a:rPr b="1" lang="ar-EG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EG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892800" y="1052640"/>
            <a:ext cx="1095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ff3399"/>
                </a:solidFill>
                <a:latin typeface="Times New Roman"/>
              </a:rPr>
              <a:t>كَيْفَ تَتَغَيَّرُ السَّوائِلُ وَالْغازاتُ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3284640"/>
            <a:ext cx="784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هو تحول السائل إلى غاز. فالماء ينتقل إلى الهواء على شكل غاز.عِنْدَما تكون درجة حرارة الْماءِ أعلى يَكونُ تَبَخُّرُهُ أَسْرَعَ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141300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3399"/>
                </a:solidFill>
                <a:latin typeface="Times New Roman"/>
              </a:rPr>
              <a:t>التَّبَخُّرُ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76500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بُخارُ الْماءِ هُوَ ماءٌ عَلى شَكْلِ غازٍ</a:t>
            </a: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يَتَحَوَّلُ بُخارُ الْماءِ إِلى سائِلٍ عِنْدَما يَبْرُدُ</a:t>
            </a: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عِنْدَما يُلامِسُ بُخارُ الْماءِ الْمَوْجودُ في الْهَواءِ سَطْحًا بارِدًا، فَإِنَّهُ يَتَحَوَّلُ إِلى ماءٍ</a:t>
            </a: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لِهَذا تَتَجَمَّعُ قَطَرَاتُ الْماءِ عَلى زُجاجِ النَّوَافِذِ وَالنَّظَّارَاتِ</a:t>
            </a:r>
            <a:r>
              <a:rPr b="1" lang="ar-SA" sz="40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أَحْيانًا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3313080" cy="1816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296208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8:09:23Z</dcterms:modified>
  <cp:revision>23</cp:revision>
  <dc:subject/>
  <dc:title>PowerPoint Presentation</dc:title>
</cp:coreProperties>
</file>