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CRASHBUZ.WAV" ContentType="audio/x-wav"/>
  <Override PartName="/ppt/media/image3.wmf" ContentType="image/x-wmf"/>
  <Override PartName="/ppt/media/a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E0F1-4725-4F2D-B362-27F23F1F4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2514240"/>
            <a:ext cx="77724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265640"/>
            <a:ext cx="77724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0516-5493-4FE5-8438-4FFED372F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5142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0760" y="25142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2656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20760" y="42656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77D4-92F8-42F7-9882-92A4D3C77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25142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66080" y="25142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3720" y="25142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2656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66080" y="42656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3720" y="42656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78B1-AFFF-4E96-A663-7E56A0E41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3A48D-B8C3-4CDD-8BAB-BBDC451AD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25142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73372-7A68-4071-BB16-8E37C0227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25142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DE27D-0027-43DD-9D84-D6F2A14DF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251424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20760" y="251424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2389E-272C-4E2F-B9AD-334D06789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C746E-A829-45F8-B2A9-B66AD1FF0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761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BC49A-F4E9-42BD-BF1B-297474938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25142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20760" y="251424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2656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0FD6B-4D23-4DF6-9E4F-6FA022783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25142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5BDD-F71C-4AB9-8616-A7A8CCEB4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251424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20760" y="25142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20760" y="42656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1380B-FC27-47FC-B7A9-F1C62126E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5142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20760" y="25142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265640"/>
            <a:ext cx="77724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0731C-6016-404A-9E55-48FF75830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2514240"/>
            <a:ext cx="77724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265640"/>
            <a:ext cx="77724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3FDC3-D682-4EA9-AE0E-C27C2C842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25142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25142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2656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20760" y="42656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63080-ACEF-4C37-803C-0DCC045C0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25142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66080" y="25142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3720" y="25142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2656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466080" y="42656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3720" y="42656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9B1F3-BFEA-49D4-A775-2915E7F32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25142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12E1-DC81-4F68-A4BC-FCBD0DCD3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251424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20760" y="251424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C7E2-9F03-48FC-8499-98E26381A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D68A-BE4A-4544-920B-CCDD93F14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761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C1E4-AD27-49B2-831E-8044C5FB4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5142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20760" y="251424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2656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232E-03C2-4A58-8943-587062786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251424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20760" y="25142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20760" y="42656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76D3-1BE1-4CFA-BC76-C4D2044AE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25142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0760" y="25142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265640"/>
            <a:ext cx="77724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E40D-598C-4BBE-8E98-498B5F886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25142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99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  <a:p>
            <a:pPr lvl="1" marL="601560" indent="-231480">
              <a:spcBef>
                <a:spcPts val="799"/>
              </a:spcBef>
              <a:buClr>
                <a:srgbClr val="99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  <a:p>
            <a:pPr lvl="2" marL="925560" indent="-185040">
              <a:spcBef>
                <a:spcPts val="799"/>
              </a:spcBef>
              <a:buClr>
                <a:srgbClr val="99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  <a:p>
            <a:pPr lvl="3" marL="1296000" indent="-185040">
              <a:spcBef>
                <a:spcPts val="799"/>
              </a:spcBef>
              <a:buClr>
                <a:srgbClr val="99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  <a:p>
            <a:pPr lvl="4" marL="1666440" indent="-185040">
              <a:spcBef>
                <a:spcPts val="799"/>
              </a:spcBef>
              <a:buClr>
                <a:srgbClr val="99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  <a:p>
            <a:pPr lvl="5" marL="1666440" indent="-185040">
              <a:spcBef>
                <a:spcPts val="799"/>
              </a:spcBef>
              <a:buClr>
                <a:srgbClr val="99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  <a:p>
            <a:pPr lvl="6" marL="1666440" indent="-185040">
              <a:spcBef>
                <a:spcPts val="799"/>
              </a:spcBef>
              <a:buClr>
                <a:srgbClr val="99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400" spc="-1" strike="noStrike">
                <a:solidFill>
                  <a:srgbClr val="99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99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3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993300"/>
                </a:solidFill>
                <a:latin typeface="Times New Roman"/>
                <a:ea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E0170-26C2-431A-AB14-1F25FD498C42}" type="slidenum">
              <a:rPr b="0" lang="ar-SA" sz="1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400" spc="-1" strike="noStrike">
                <a:solidFill>
                  <a:srgbClr val="99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99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993300"/>
                </a:solidFill>
                <a:latin typeface="Times New Roman"/>
                <a:ea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B0694-9A7C-4316-A793-9F64D59858F1}" type="slidenum">
              <a:rPr b="0" lang="ar-SA" sz="1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9933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9933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9933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9933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9933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9933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9933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99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9933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99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99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CRASHBUZ.WAV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a.wav"/><Relationship Id="rId2" Type="http://schemas.openxmlformats.org/officeDocument/2006/relationships/audio" Target="../media/a.wav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3059280" y="692280"/>
            <a:ext cx="3528720" cy="165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الفصل الثامن 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84360" y="2421000"/>
            <a:ext cx="7778520" cy="277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 Black"/>
              </a:rPr>
              <a:t>السماء 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1116000" y="1268280"/>
            <a:ext cx="7099200" cy="28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ماذا يُوجَدُ في السَّماءِ؟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11280" y="1484280"/>
            <a:ext cx="810108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4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00"/>
                </a:solidFill>
                <a:latin typeface="Times New Roman"/>
              </a:rPr>
              <a:t>فِي اللَّيْلِ، يُمْكِنُني رُؤْيَةُ الْغُيومِ، وَالْقَمَرِ، وَالنُّجومِ.</a:t>
            </a:r>
            <a:endParaRPr b="0" lang="en-US" sz="6600" spc="-1" strike="noStrike">
              <a:solidFill>
                <a:srgbClr val="9933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050920" y="3933720"/>
            <a:ext cx="309744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826920" y="2852640"/>
            <a:ext cx="7812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00"/>
                </a:solidFill>
                <a:latin typeface="Times New Roman"/>
              </a:rPr>
              <a:t>أَجْسامٌ مُضِيْئَةٌ، تُكَوِّنُ أَشْكالاً جَمِيْلَةً في السَّماءِ. تَبْدو النُّجومُ صَغيرَةً جدًّا؛ لأَنَّها بَعيدةٌ جِدًّا</a:t>
            </a:r>
            <a:r>
              <a:rPr b="1" lang="ar-SA" sz="40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627280" y="907920"/>
            <a:ext cx="4032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00ff"/>
                </a:solidFill>
                <a:latin typeface="Times New Roman"/>
              </a:rPr>
              <a:t>النُّجومُ</a:t>
            </a:r>
            <a:r>
              <a:rPr b="1" lang="ar-SA" sz="6600" spc="-1" strike="noStrike">
                <a:solidFill>
                  <a:srgbClr val="ff00ff"/>
                </a:solidFill>
                <a:latin typeface="Times New Roman"/>
              </a:rPr>
              <a:t> </a:t>
            </a:r>
            <a:endParaRPr b="0" lang="en-US" sz="6600" spc="-1" strike="noStrike">
              <a:solidFill>
                <a:srgbClr val="9933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68360" y="4437000"/>
            <a:ext cx="3240000" cy="22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RASHBUZ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411280" y="836640"/>
            <a:ext cx="4969080" cy="115236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cc9900"/>
              </a:gs>
              <a:gs pos="50000">
                <a:srgbClr val="ff9900"/>
              </a:gs>
              <a:gs pos="100000">
                <a:srgbClr val="cc9900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993300"/>
                </a:solidFill>
                <a:latin typeface="Times New Roman"/>
              </a:rPr>
              <a:t>الشَّمْسُ</a:t>
            </a:r>
            <a:r>
              <a:rPr b="1" lang="ar-SA" sz="4000" spc="-1" strike="noStrike">
                <a:solidFill>
                  <a:srgbClr val="9933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116000" y="2276640"/>
            <a:ext cx="78120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00"/>
                </a:solidFill>
                <a:latin typeface="Times New Roman"/>
              </a:rPr>
              <a:t>أَقْرَبُ النَّجومِ إِلى الأَرْضِ. وَهِيَ تُضيءُ السَّماءَ وَالأَرْضَ أَثْناءَ النَّهارِ. فَسُبْحَانَ اللهِ خَالِقِ كُلِّ شَيءٍ</a:t>
            </a:r>
            <a:r>
              <a:rPr b="1" lang="ar-SA" sz="4800" spc="-1" strike="noStrike">
                <a:solidFill>
                  <a:srgbClr val="ffff00"/>
                </a:solidFill>
                <a:latin typeface="Times New Roman"/>
              </a:rPr>
              <a:t>!</a:t>
            </a:r>
            <a:endParaRPr b="0" lang="en-US" sz="4800" spc="-1" strike="noStrike">
              <a:solidFill>
                <a:srgbClr val="9933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68360" y="4797360"/>
            <a:ext cx="277488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042920" y="1484280"/>
            <a:ext cx="78120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00"/>
                </a:solidFill>
                <a:latin typeface="Times New Roman"/>
              </a:rPr>
              <a:t>في النَّهارِ، يَكونُ ضَوْءُ الشَّمْسِ ساطِعًا جِدًّا، فَلا أسْتَطِيْعُ رُؤْيَةَ نُجُوْمٍ أُخْرى. لَكِنَّ هَذِهِ النُّجومَ مَوْجودَةٌ في السَّماءِ</a:t>
            </a:r>
            <a:r>
              <a:rPr b="1" lang="ar-SA" sz="48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9933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84360" y="4149720"/>
            <a:ext cx="3887640" cy="25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203640" y="115920"/>
            <a:ext cx="3673440" cy="115236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cc9900"/>
              </a:gs>
              <a:gs pos="50000">
                <a:srgbClr val="ff9900"/>
              </a:gs>
              <a:gs pos="100000">
                <a:srgbClr val="cc9900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993300"/>
                </a:solidFill>
                <a:latin typeface="Times New Roman"/>
              </a:rPr>
              <a:t>ماذا يوجد فى السماء</a:t>
            </a:r>
            <a:r>
              <a:rPr b="1" lang="ar-SA" sz="4000" spc="-1" strike="noStrike">
                <a:solidFill>
                  <a:srgbClr val="9933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55640" y="1413000"/>
            <a:ext cx="838836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00"/>
                </a:solidFill>
                <a:latin typeface="Times New Roman"/>
              </a:rPr>
              <a:t>يُوْجَدُ فِي السَّمَاءِ أَجْسَامٌ كَبِيْرَةٌ، لا يُمْكِنُني رُؤْيَتُهَا بِسُهُوْلَةٍ أَثْنَاءَ اللَّيْلِ، تُسَمَّى كَوَاكِبَ. تَدُوْرُ الكَوَاكِبُ حَوْلَ الشَّمْسِ</a:t>
            </a:r>
            <a:r>
              <a:rPr b="1" lang="ar-SA" sz="40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99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00"/>
                </a:solidFill>
                <a:latin typeface="Times New Roman"/>
              </a:rPr>
              <a:t>الأَرْضُ كَوْكَبٌ يَدُوْرُ حَوْلَ الشَّمْسِ</a:t>
            </a:r>
            <a:r>
              <a:rPr b="1" lang="ar-SA" sz="40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99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00"/>
                </a:solidFill>
                <a:latin typeface="Times New Roman"/>
              </a:rPr>
              <a:t>فَالسَّمَاءُ بِنَاءٌ مُحْكَمٌ أَتْقَنَ الْخَالِقُ صُنْعَهُ بِقُدْرَتِهِ وَحِكْمَتِهِ</a:t>
            </a:r>
            <a:r>
              <a:rPr b="1" lang="ar-SA" sz="40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99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00"/>
                </a:solidFill>
                <a:latin typeface="Times New Roman"/>
              </a:rPr>
              <a:t>قَالَ تَعَالَى:</a:t>
            </a:r>
            <a:r>
              <a:rPr b="1" lang="ar-SA" sz="40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1" lang="ar-SA" sz="4000" spc="-1" strike="noStrike">
                <a:solidFill>
                  <a:srgbClr val="ffff00"/>
                </a:solidFill>
                <a:latin typeface="Times New Roman"/>
              </a:rPr>
              <a:t>" </a:t>
            </a:r>
            <a:r>
              <a:rPr b="1" lang="ar-SA" sz="4000" spc="-1" strike="noStrike">
                <a:solidFill>
                  <a:srgbClr val="ff00ff"/>
                </a:solidFill>
                <a:latin typeface="Times New Roman"/>
              </a:rPr>
              <a:t>ءأنتم أشد خلقا أم السماء بنها " النازعات</a:t>
            </a:r>
            <a:r>
              <a:rPr b="1" lang="ar-SA" sz="4000" spc="-1" strike="noStrike">
                <a:solidFill>
                  <a:srgbClr val="ff00ff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755640" y="189000"/>
            <a:ext cx="1943280" cy="12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755640" y="2637000"/>
            <a:ext cx="7956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00"/>
                </a:solidFill>
                <a:latin typeface="Times New Roman"/>
              </a:rPr>
              <a:t>الشَّمْسُ وَالنُّجومُ الأُخْرى تُصْدِرُ حَرارَةً وَضَوْءاً</a:t>
            </a:r>
            <a:r>
              <a:rPr b="1" lang="ar-SA" sz="40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99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00"/>
                </a:solidFill>
                <a:latin typeface="Times New Roman"/>
              </a:rPr>
              <a:t>حَرَارَةُ الشَّمْسِ وَضَوْؤهَا يُسَخِّنَانِ الْهَواءَ، وَالْيَابِسَةَ، وَالْماءَ</a:t>
            </a:r>
            <a:r>
              <a:rPr b="1" lang="ar-SA" sz="4000" spc="-1" strike="noStrike">
                <a:solidFill>
                  <a:srgbClr val="993300"/>
                </a:solidFill>
                <a:latin typeface="Times New Roman"/>
              </a:rPr>
              <a:t>.</a:t>
            </a:r>
            <a:r>
              <a:rPr b="1" lang="en-US" sz="4000" spc="-1" strike="noStrike">
                <a:solidFill>
                  <a:srgbClr val="9933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00160" y="836640"/>
            <a:ext cx="8110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00ff"/>
                </a:solidFill>
                <a:latin typeface="Times New Roman"/>
              </a:rPr>
              <a:t>ما أَهَمِّيَّةُ الشَّمْسِ؟</a:t>
            </a:r>
            <a:endParaRPr b="0" lang="en-US" sz="7200" spc="-1" strike="noStrike">
              <a:solidFill>
                <a:srgbClr val="99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cOrPiOnE</cp:lastModifiedBy>
  <dcterms:modified xsi:type="dcterms:W3CDTF">2006-12-29T10:53:08Z</dcterms:modified>
  <cp:revision>45</cp:revision>
  <dc:subject/>
  <dc:title>PowerPoint Presentation</dc:title>
</cp:coreProperties>
</file>