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music.wav" ContentType="audio/x-wav"/>
  <Override PartName="/ppt/media/image3.wmf" ContentType="image/x-wmf"/>
  <Override PartName="/ppt/media/image1.wmf" ContentType="image/x-wmf"/>
  <Override PartName="/ppt/media/CLICKER.WAV" ContentType="audio/x-wav"/>
  <Override PartName="/ppt/media/image2.wmf" ContentType="image/x-wmf"/>
  <Override PartName="/ppt/media/CNNTONE.WAV" ContentType="audio/x-wav"/>
  <Override PartName="/ppt/media/CLICKER(1).WAV" ContentType="audio/x-wav"/>
  <Override PartName="/ppt/media/BUTTON1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CE-1748-497C-BD4A-702B059E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BD5-9317-4882-B2B6-E49E8DBA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EE1-B1AD-4705-9895-7BED667B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F43-E1D9-4514-8B98-E6B3D7F1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411-1D8F-4E83-9B15-82BBF572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28A-8ADF-4148-840D-7E11A21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73B-7121-4493-A548-3094B6C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C6E4-2181-4FB8-BA00-25401A7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BFF-EF3F-4756-8C9B-89EABEC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940D-7EBE-471E-83AA-971BEB3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22D-5294-4D63-A336-426818A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4F2-9B17-4C6A-8234-041E4594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99A-EBB8-4BAA-94DE-2A49B03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B52F-E47C-406D-85A4-F9C0845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1DA2-12C1-44F9-8418-979F609E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EA61-6428-4DB2-8F18-843A5376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B320-B90B-4C71-897A-BADA306D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F74-0B74-4C0E-AAFB-CF124F8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521-41DA-4136-A6CD-4DB6700D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20D-46E8-4FBC-BA30-328BC4E3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D0E-9AF8-4F13-9C6B-59860EC2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5E4-A6AA-4C4F-81AA-712E9F5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7AD-5CB2-46F4-906C-D8D9800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D9E-3B5E-4F58-9B2E-9651A30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822-12ED-49B3-BBDB-38D74BF0A3A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D08-43FE-472C-BBE3-6FFE288551D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ER.WAV"/><Relationship Id="rId3" Type="http://schemas.openxmlformats.org/officeDocument/2006/relationships/audio" Target="../media/CLICKER(1)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UTTON1.WAV"/><Relationship Id="rId3" Type="http://schemas.openxmlformats.org/officeDocument/2006/relationships/audio" Target="../media/BUTTON1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ER.WAV"/><Relationship Id="rId3" Type="http://schemas.openxmlformats.org/officeDocument/2006/relationships/audio" Target="../media/CLICKER.WAV"/><Relationship Id="rId4" Type="http://schemas.openxmlformats.org/officeDocument/2006/relationships/audio" Target="../media/CLICKER.WAV"/><Relationship Id="rId5" Type="http://schemas.openxmlformats.org/officeDocument/2006/relationships/audio" Target="../media/CLICKER.WAV"/><Relationship Id="rId6" Type="http://schemas.openxmlformats.org/officeDocument/2006/relationships/audio" Target="../media/CLICKER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1341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ساد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890800"/>
            <a:ext cx="7777440" cy="33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الحركة والطاقة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60280"/>
            <a:ext cx="6985080" cy="1008000"/>
          </a:xfrm>
          <a:custGeom>
            <a:avLst/>
            <a:gdLst>
              <a:gd name="textAreaLeft" fmla="*/ 118800 w 6985080"/>
              <a:gd name="textAreaRight" fmla="*/ 6866280 w 698508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49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035" y="21600"/>
                </a:lnTo>
                <a:arcTo wR="3600" hR="3600" stAng="10800000" swAng="5400000"/>
                <a:lnTo>
                  <a:pt x="1496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6600cc"/>
              </a:gs>
              <a:gs pos="100000">
                <a:srgbClr val="9999ff"/>
              </a:gs>
            </a:gsLst>
            <a:lin ang="8100000"/>
          </a:gra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كَيْفَ أحَدِّدُ مَوْقِعَ الشَّيْء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44640"/>
            <a:ext cx="70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هُوَ مَكانُ وُجودِ الشَّيْءِ بِالنِّسْبَةِ لشَيْءٍ آخَرَ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يُبَيِّنُ لَنَا ما إذا كانَ الشَّيْءُ قَريباً مِنَ شَيْءٍ آخَرَ أَمْ بَعيدًا عَنْهُ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889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4112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كَما يُبَيِّنُ لَنَا الْمَوْقِعُ ما إذا كانَ الشَّيْءُ في الأَعْلى، أَمْ في الأَسْفَلِ، أَم إِلَى الْيَمينِ، أمْ إلى الْيَسارِ مِنْ شِيْءٍ آخَر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181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76500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كَيْفَ تَتَحَرَّكُ الأَشْياءُ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طُرُقٍِ عِدَّةٍ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10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492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َحَْركَةَ هِيَ تَغَيُّرُ مَوْقِعَ الشَّيْء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92280"/>
            <a:ext cx="8207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َحرَّكُ الأَشْياءُ فِي خَطٍّ مُسْتَقِيمٍ إلى الأَمامِ أَوْ إِلَى الْخَلْفِ أَوْ في شَكْلٍ دائِريّ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حَركُ الأَشْياءُ أيْضًا فِي خَطٍّ مُتَعَرِّج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سُرْع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َعْضَ الأَجْسَامِ تَتَحَرَّكُ بِسُرْعَةٍ كَبِير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وبَعْضُهَا يَتَحَرَّكُ بِبُطْء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1520" y="436572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9:27:28Z</dcterms:modified>
  <cp:revision>43</cp:revision>
  <dc:subject/>
  <dc:title>PowerPoint Presentation</dc:title>
</cp:coreProperties>
</file>