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laser.wav" ContentType="audio/x-wav"/>
  <Override PartName="/ppt/media/image8.wmf" ContentType="image/x-wmf"/>
  <Override PartName="/ppt/media/image1.jpeg" ContentType="image/jpeg"/>
  <Override PartName="/ppt/media/image4.wmf" ContentType="image/x-wmf"/>
  <Override PartName="/ppt/media/BOINGG.WAV" ContentType="audio/x-wav"/>
  <Override PartName="/ppt/media/image2.jpeg" ContentType="image/jpeg"/>
  <Override PartName="/ppt/media/CHEEPCHP.WAV" ContentType="audio/x-wav"/>
  <Override PartName="/ppt/media/music.wav" ContentType="audio/x-wav"/>
  <Override PartName="/ppt/media/image3.wmf" ContentType="image/x-wmf"/>
  <Override PartName="/ppt/media/image5.jpeg" ContentType="image/jpeg"/>
  <Override PartName="/ppt/media/compress.wav" ContentType="audio/x-wav"/>
  <Override PartName="/ppt/media/HITWALL.WAV" ContentType="audio/x-wav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4EBD-701A-4EE2-8CBB-EF6054D8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93804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D583-8A1E-4626-938A-BE4398B7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0387-9D97-4BD2-BD67-E163918FF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98E9-2A97-41EB-ABE2-4B732E9BC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EC40-5278-4359-BD36-A4E7127F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78C8-44B3-4BAE-9A26-8F353C24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50A8-BCAD-4ACD-90A3-D83765D3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2995-0A27-4DD0-B7EF-9F50D130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08B0-BDAB-428D-A837-851C9725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53316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51DD-F056-47E7-B7AE-B20EA212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5FBC-8E05-4B3F-9A37-BE1473EB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0D49-51B6-4A32-9FAF-75521B98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C6AB-0AB7-44CE-85BE-F7870546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D6C6-E6B3-485C-9986-C6A6A4B1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93804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4C67-634A-4542-9CA9-4CD6CA9F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5BCB-0544-458D-8F0A-0C3781FC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E1FE-A569-48EC-A3B6-BCA10346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F5C7-C463-42C5-BF7A-FA0047D0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9EB3-9635-402A-9900-9096A92F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DE45-4417-4699-84DC-593C4FBE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53316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12F6-BC6A-48E9-B6F3-D788BC85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0CAF-E3C6-48E4-B156-33C9AF7C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734A-C838-4173-9426-6FB4682A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BFE7-A739-42A8-BB1F-59E0C77B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66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D365-BDA6-484E-A0C2-1261DAAE7FFC}" type="slidenum">
              <a:rPr b="0" lang="ar-SA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66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9E64-707F-4790-833D-9733D660F041}" type="slidenum">
              <a:rPr b="0" lang="ar-SA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66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66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EEPCHP.WAV"/><Relationship Id="rId3" Type="http://schemas.openxmlformats.org/officeDocument/2006/relationships/audio" Target="../media/music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audio" Target="../media/CHEEPCHP.WAV"/><Relationship Id="rId4" Type="http://schemas.openxmlformats.org/officeDocument/2006/relationships/audio" Target="../media/music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audio" Target="../media/HITWALL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BOINGG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audio" Target="../media/BOINGG.WAV"/><Relationship Id="rId4" Type="http://schemas.openxmlformats.org/officeDocument/2006/relationships/audio" Target="../media/compress.wav"/><Relationship Id="rId5" Type="http://schemas.openxmlformats.org/officeDocument/2006/relationships/audio" Target="../media/compress.wav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32000" y="765000"/>
            <a:ext cx="348804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الوحدة الخامسة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55640" y="2492280"/>
            <a:ext cx="799164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06600">
                      <a:alpha val="70000"/>
                    </a:srgbClr>
                  </a:outerShdw>
                </a:effectLst>
                <a:latin typeface="Hesham AlSharq"/>
              </a:rPr>
              <a:t>المـــادة</a:t>
            </a:r>
            <a:endParaRPr b="1" lang="en-US" sz="72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006600">
                    <a:alpha val="70000"/>
                  </a:srgbClr>
                </a:outerShdw>
              </a:effectLst>
              <a:latin typeface="Hesham AlSharq"/>
              <a:ea typeface="Hesham AlSharq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132000" y="765000"/>
            <a:ext cx="348804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الدرس الأول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55640" y="2492280"/>
            <a:ext cx="799164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06600">
                      <a:alpha val="70000"/>
                    </a:srgbClr>
                  </a:outerShdw>
                </a:effectLst>
                <a:latin typeface="Hesham AlSharq"/>
              </a:rPr>
              <a:t>صفات المواد</a:t>
            </a:r>
            <a:endParaRPr b="1" lang="en-US" sz="72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006600">
                    <a:alpha val="70000"/>
                  </a:srgbClr>
                </a:outerShdw>
              </a:effectLst>
              <a:latin typeface="Hesham AlSharq"/>
              <a:ea typeface="Hesham AlSharq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25146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24000" y="2852640"/>
            <a:ext cx="79200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0000"/>
                </a:solidFill>
                <a:latin typeface="Times New Roman"/>
              </a:rPr>
              <a:t>عِنْدما نَصِفُ شَيْئًا ما فَإِنّنا نَتَحَدَّثُ عَنْ صِفاتٍه، مِثْلِ: اللَّوْنِ، والشَّكْلِ، وَالْحَجْمِ، وَالْمَلْمَسِ، وَالرَّائِحَةِ، وَالطَّعْمِ، وَالصَّوْتِ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11640" y="1052640"/>
            <a:ext cx="357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800000"/>
                </a:solidFill>
                <a:latin typeface="Times New Roman"/>
              </a:rPr>
              <a:t>ما اَلْمَادَّةُ</a:t>
            </a:r>
            <a:endParaRPr b="0" lang="en-US" sz="9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3097440" cy="1654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50920" y="5013360"/>
            <a:ext cx="320508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TWA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419640" y="620640"/>
            <a:ext cx="5724360" cy="1079640"/>
          </a:xfrm>
          <a:custGeom>
            <a:avLst/>
            <a:gdLst>
              <a:gd name="textAreaLeft" fmla="*/ 892440 w 5724360"/>
              <a:gd name="textAreaRight" fmla="*/ 4831920 w 5724360"/>
              <a:gd name="textAreaTop" fmla="*/ 13500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393" y="0"/>
                </a:lnTo>
                <a:arcTo wR="675" hR="675" stAng="16200000" swAng="5400000"/>
                <a:lnTo>
                  <a:pt x="6068" y="2700"/>
                </a:lnTo>
                <a:lnTo>
                  <a:pt x="15532" y="2700"/>
                </a:lnTo>
                <a:lnTo>
                  <a:pt x="15532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232" y="18900"/>
                </a:lnTo>
                <a:lnTo>
                  <a:pt x="18232" y="20925"/>
                </a:lnTo>
                <a:arcTo wR="675" hR="675" stAng="0" swAng="5400000"/>
                <a:lnTo>
                  <a:pt x="4043" y="21600"/>
                </a:lnTo>
                <a:arcTo wR="675" hR="675" stAng="5400000" swAng="5400000"/>
                <a:lnTo>
                  <a:pt x="3368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6068" y="675"/>
                </a:moveTo>
                <a:arcTo wR="675" hR="675" stAng="0" swAng="5400000"/>
                <a:lnTo>
                  <a:pt x="4043" y="1350"/>
                </a:lnTo>
                <a:arcTo wR="675" hR="675" stAng="16200000" swAng="-5400000"/>
                <a:arcTo wR="675" hR="675" stAng="10800000" swAng="-5400000"/>
                <a:lnTo>
                  <a:pt x="6068" y="2700"/>
                </a:lnTo>
              </a:path>
              <a:path fill="none" w="21600" h="21600">
                <a:moveTo>
                  <a:pt x="15532" y="675"/>
                </a:moveTo>
                <a:arcTo wR="675" hR="675" stAng="10800000" swAng="-5400000"/>
                <a:lnTo>
                  <a:pt x="17557" y="1350"/>
                </a:lnTo>
                <a:arcTo wR="675" hR="675" stAng="16200000" swAng="5400000"/>
                <a:arcTo wR="675" hR="675" stAng="0" swAng="5400000"/>
                <a:lnTo>
                  <a:pt x="15532" y="2700"/>
                </a:lnTo>
              </a:path>
              <a:path fill="none" w="21600" h="21600">
                <a:moveTo>
                  <a:pt x="3368" y="2025"/>
                </a:moveTo>
                <a:lnTo>
                  <a:pt x="3368" y="18900"/>
                </a:lnTo>
              </a:path>
              <a:path fill="none" w="21600" h="21600">
                <a:moveTo>
                  <a:pt x="18232" y="2025"/>
                </a:moveTo>
                <a:lnTo>
                  <a:pt x="18232" y="18900"/>
                </a:lnTo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99ff33"/>
              </a:gs>
              <a:gs pos="100000">
                <a:srgbClr val="ff9900"/>
              </a:gs>
            </a:gsLst>
            <a:lin ang="81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600" spc="-1" strike="noStrike">
                <a:solidFill>
                  <a:srgbClr val="ff0000"/>
                </a:solidFill>
                <a:latin typeface="Times New Roman"/>
              </a:rPr>
              <a:t>حالات المادة</a:t>
            </a:r>
            <a:r>
              <a:rPr b="1" lang="ar-SA" sz="5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5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2205000"/>
            <a:ext cx="82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تُوْجَدُ المَادَةُ فِي ثَلاثِ حالاتٍ، هِيَ: الصُّلْبَةُ، السائلة ، الغازية ,رغم معرفتنا الجيدة لهذه الحقيقة الا انه علينا توضيحها من الناحية الفيزيائية فهناك مواد يمكن تحويلها من سائل الى غاز بالتسخين واخرى بتأثير التسخين تحول من صلبة الى سائلة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02436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ING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08000" y="549360"/>
            <a:ext cx="5616720" cy="1222200"/>
          </a:xfrm>
          <a:custGeom>
            <a:avLst/>
            <a:gdLst>
              <a:gd name="textAreaLeft" fmla="*/ 875520 w 5616720"/>
              <a:gd name="textAreaRight" fmla="*/ 4741200 w 5616720"/>
              <a:gd name="textAreaTop" fmla="*/ 152640 h 1222200"/>
              <a:gd name="textAreaBottom" fmla="*/ 122256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393" y="0"/>
                </a:lnTo>
                <a:arcTo wR="675" hR="675" stAng="16200000" swAng="5400000"/>
                <a:lnTo>
                  <a:pt x="6068" y="2700"/>
                </a:lnTo>
                <a:lnTo>
                  <a:pt x="15532" y="2700"/>
                </a:lnTo>
                <a:lnTo>
                  <a:pt x="15532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232" y="18900"/>
                </a:lnTo>
                <a:lnTo>
                  <a:pt x="18232" y="20925"/>
                </a:lnTo>
                <a:arcTo wR="675" hR="675" stAng="0" swAng="5400000"/>
                <a:lnTo>
                  <a:pt x="4043" y="21600"/>
                </a:lnTo>
                <a:arcTo wR="675" hR="675" stAng="5400000" swAng="5400000"/>
                <a:lnTo>
                  <a:pt x="3368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6068" y="675"/>
                </a:moveTo>
                <a:arcTo wR="675" hR="675" stAng="0" swAng="5400000"/>
                <a:lnTo>
                  <a:pt x="4043" y="1350"/>
                </a:lnTo>
                <a:arcTo wR="675" hR="675" stAng="16200000" swAng="-5400000"/>
                <a:arcTo wR="675" hR="675" stAng="10800000" swAng="-5400000"/>
                <a:lnTo>
                  <a:pt x="6068" y="2700"/>
                </a:lnTo>
              </a:path>
              <a:path fill="none" w="21600" h="21600">
                <a:moveTo>
                  <a:pt x="15532" y="675"/>
                </a:moveTo>
                <a:arcTo wR="675" hR="675" stAng="10800000" swAng="-5400000"/>
                <a:lnTo>
                  <a:pt x="17557" y="1350"/>
                </a:lnTo>
                <a:arcTo wR="675" hR="675" stAng="16200000" swAng="5400000"/>
                <a:arcTo wR="675" hR="675" stAng="0" swAng="5400000"/>
                <a:lnTo>
                  <a:pt x="15532" y="2700"/>
                </a:lnTo>
              </a:path>
              <a:path fill="none" w="21600" h="21600">
                <a:moveTo>
                  <a:pt x="3368" y="2025"/>
                </a:moveTo>
                <a:lnTo>
                  <a:pt x="3368" y="18900"/>
                </a:lnTo>
              </a:path>
              <a:path fill="none" w="21600" h="21600">
                <a:moveTo>
                  <a:pt x="18232" y="2025"/>
                </a:moveTo>
                <a:lnTo>
                  <a:pt x="18232" y="18900"/>
                </a:lnTo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99ff33"/>
              </a:gs>
              <a:gs pos="100000">
                <a:srgbClr val="ff9900"/>
              </a:gs>
            </a:gsLst>
            <a:lin ang="81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800" spc="-1" strike="noStrike">
                <a:solidFill>
                  <a:srgbClr val="006600"/>
                </a:solidFill>
                <a:latin typeface="Times New Roman"/>
              </a:rPr>
              <a:t>ما الْكُتْلَةُ؟</a:t>
            </a:r>
            <a:endParaRPr b="0" lang="en-US" sz="6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2421000"/>
            <a:ext cx="882000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الْكُتْلَةُ أَيْضًا صِفَةٌ لِلْمادَّةِ. والْكُتْلةَُ هِيَ كَمِّيِّةُ الْمَادَّةِ الْمَوْجودَةُ في الشَّيْءِ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200" spc="-1" strike="noStrike">
              <a:solidFill>
                <a:srgbClr val="0066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الأَشْياءُ جَميعُها لَها كُتْلَةٌ، لَكِنَّ الأَشْياءَ تَخْتَلِفُ في كُتْلَتِها. فَالأَشْياءُ الثَّقيلَةُ لَها كُتْلَةٌ أَكْبَرُ مِنْ كُتْلَةِ الأَشْياءِ الْخَفيفَةِ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ar-SA" sz="4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5084640"/>
            <a:ext cx="28432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ING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mpre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mpre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507960"/>
            <a:ext cx="82090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200" spc="-1" strike="noStrike">
                <a:solidFill>
                  <a:srgbClr val="000000"/>
                </a:solidFill>
                <a:latin typeface="Times New Roman"/>
              </a:rPr>
              <a:t>يسُتْخَْدمَ الْميزانُ لِقياسِ الْكُتْلَةِ.</a:t>
            </a:r>
            <a:endParaRPr b="0" lang="en-US" sz="62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56000" y="3068640"/>
            <a:ext cx="439236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02:39:23Z</dcterms:modified>
  <cp:revision>32</cp:revision>
  <dc:subject/>
  <dc:title>PowerPoint Presentation</dc:title>
</cp:coreProperties>
</file>