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2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6D5-F154-4FE9-BC0A-98AAEB32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38F-0748-4A55-B4C1-946165FF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FF2-7A19-424B-AC78-24B5D0A7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505-9A9B-4F62-B572-46616FFF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D5E3-35A3-481E-B260-3A3F121B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0362-D4A8-40C7-8983-AB20C516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884A-EFA8-47AD-8C3C-813A1857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5312-B8DE-4185-9EB1-6A9D9135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9B49-8B4C-4073-913A-2007362D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CEB3-38A3-4FB2-9BBB-4167F276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8490-5599-4FF7-A999-4512DD20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B238-DD58-474E-B22A-A64BC037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E4E8-36CE-4FB7-9E0C-BB7342C0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4BCB-22F4-4A5F-AC81-E0F16B36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575C-5847-4EBF-A27F-5A7627E3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8787-FE98-4A76-B589-B09A1654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2897-D549-4072-B45E-46A6029C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D2B-A84D-4A32-9FB2-E9A9F8B3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119-7829-4C23-A50E-951CA23D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CA8-6233-4CDE-8F2E-02CD65C3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BBE-F8AC-4A3F-9D45-F3B13727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870-8B3F-4E9D-86D6-6D237A00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301-A286-446B-895C-6587B57B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1CD-758E-4791-947D-3B6B7CBB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40DE-70F3-4CB3-9AB8-3234412B1C9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2928-F27D-41C9-9BB9-53B21D14CFA6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2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2852640"/>
            <a:ext cx="74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Hesham AlSharq"/>
              </a:rPr>
              <a:t>المواد الصلبة والسوائل والغازات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5640" y="1989000"/>
            <a:ext cx="72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ْمَادَّةُ الصُّلْبَةُ لَها شَكْلٌ مُحَدَّدٌ. تَختلِفُ المَوادُ الصُّلْبَةُ بَعْضُها عَنْ بَعْضٍ في الشَّكْلِ والمَلْمَسِ وَكَمِّيَّةِ المَادَّةِ. يُمْكِنُ أَنْ أسْتَخْدِمَ الْمِسْطَرَةَ لِقِياسِ أَبْعادِ الْمَوادِّ الصُّلْبَةِ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5040" y="765000"/>
            <a:ext cx="659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مَا صِفَاتُ المَادَّةِ الصُّلْبَة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2205000"/>
            <a:ext cx="755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ْمَادَّةَ السَّائِلَةُ لَيْسَ لَهَا شَكْلٌ مُحَدَّدٌ، إِذْ تأْخُذُ شَكْلَ الْوِعاءِ الذي تُوضَعُ فيهِ. يَنْسَابُ السَّائِلُ فَيَنْتَقِلُ مِنْ مَكَانٍ إِلى آخَرَ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6880" y="420840"/>
            <a:ext cx="787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Times New Roman"/>
              </a:rPr>
              <a:t>ما صِفاتُ السَّوائِلِ؟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68360" y="4653000"/>
            <a:ext cx="4391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00000" y="765000"/>
            <a:ext cx="77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ff"/>
                </a:solidFill>
                <a:latin typeface="Times New Roman"/>
              </a:rPr>
              <a:t>ما صِفاتُ الْغازات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مَادَّةَ الْغَازِيَّةُ لَيْسَ لَها شَكْلٌ مُحَدَّدٌ، فالغَازُ يَنْتَشِرُ بِسُهولَةٍ يَتَكَوَّنُ الْهَواءُ الَّذِي أَتَنَفَّسُهُ مِنْ غازاتٍ مُخْتَلِف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71640" y="3716280"/>
            <a:ext cx="33958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86040"/>
            <a:ext cx="813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نا لا أرَى الْهَوَاءَ، وَلَكِنِّي أُحِسُّ بِهِ عِنْدَمَا يَكُوْنُ بارِدًا أَوْ دافِئًا، وَأُحِسُّ بِهِ وَهُوَ يَنْتَشِرُ مِنْ مَكانٍ إِلى آخَرَ. ويتكون الهواء من مجموعة كبيرة من الغازات مثل : غاز الأكسجين الذى يتنفسه الإنسان والحيوان وسائر المخلوقات على سطح الأرض وثانى أكسيد الكربون اللازم لعملية البناء الضوئى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71640" y="4581360"/>
            <a:ext cx="3411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6:35:42Z</dcterms:modified>
  <cp:revision>23</cp:revision>
  <dc:subject/>
  <dc:title>PowerPoint Presentation</dc:title>
</cp:coreProperties>
</file>