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laser.wav" ContentType="audio/x-wav"/>
  <Override PartName="/ppt/media/water.wav" ContentType="audio/x-wav"/>
  <Override PartName="/ppt/media/CHEEPCHP.WAV" ContentType="audio/x-wav"/>
  <Override PartName="/ppt/media/image5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E16-58B7-473A-AF23-16E1B8F9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57C-B7B2-451C-B542-B9430D69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93F-0ACF-4515-A90F-E9842321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A4D-09C2-48E1-9D0D-E6A76D9C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8CB9-3CC5-4574-8299-BF427470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4DBF-C177-49DF-8FA6-C3A34481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AA80-D2A1-4021-9B44-E5B2FC2C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E065-D954-47D6-AF2F-9B36A44A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4400-9250-4D90-81FA-55AE7CA8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92BE-FE85-4133-827E-DAA2F32F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ADB3-2BBE-4EBF-959B-80DF0EB6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88A-3D04-4DF0-ABED-7E54B08B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9927-CFE2-42D8-9948-9F780DEE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48D4-CB1F-4AE0-98B2-8F39CD51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A99C-A5FD-4E35-AA8F-4D7AFFEA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73E2-37D6-4AD5-9A69-0CAE3FE8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620F-5346-4EE2-9588-E01DC584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5B3-9C6C-414A-BCAF-8925ADAA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E34-D949-43E5-ACAF-9E3F49E4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FA1-A756-4298-B89A-44F2793F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38A-9560-490F-A6AD-2AE330A6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CA5-4609-4CDE-85A4-53E4BE9A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719-C637-4625-B5EE-618DE561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B3D-625C-4911-98C4-50E622CA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E2C6-47D9-44CC-B10B-C83D3F6596EE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F12C-A008-43D1-BDC8-302AA8E2B937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water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EEPCHP.WAV"/><Relationship Id="rId3" Type="http://schemas.openxmlformats.org/officeDocument/2006/relationships/audio" Target="../media/CHEEPCHP.WAV"/><Relationship Id="rId4" Type="http://schemas.openxmlformats.org/officeDocument/2006/relationships/audio" Target="../media/CHEEPCHP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00360" y="1268280"/>
            <a:ext cx="35416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solidFill>
                  <a:srgbClr val="ff9900"/>
                </a:solidFill>
                <a:latin typeface="Impact"/>
              </a:rPr>
              <a:t>الدرس الثانى </a:t>
            </a:r>
            <a:endParaRPr b="1" lang="en-US" sz="5400" spc="1" strike="noStrike">
              <a:ln w="0">
                <a:noFill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87280" y="3346560"/>
            <a:ext cx="713772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latin typeface="Hesham Fostat"/>
              </a:rPr>
              <a:t>المخاليط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latin typeface="Hesham Fostat"/>
              <a:ea typeface="Hesham Fosta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a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2637000"/>
            <a:ext cx="781200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اَلْمَخْلوطُ شَيْئَانِ أَوْ أَشْيَاءٌ مُخْتَلِفَةٌ تَخْتَلِطُ مَعًا</a:t>
            </a: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لا تَتَغَيَّرُ المَوادُّ الصُّلْبَةُ عَادَةً عِنْدَ خَلْطِها، وَيُمْكِنُني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رُؤْيَتُها في الْمَخْلوطِ وَفَصْلُ بَعْضِها عَنْ بَعْضٍ</a:t>
            </a: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67880" y="1238400"/>
            <a:ext cx="57481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EG" sz="6200" spc="-1" strike="noStrike">
                <a:solidFill>
                  <a:srgbClr val="000000"/>
                </a:solidFill>
                <a:latin typeface="Times New Roman"/>
              </a:rPr>
              <a:t>ما اَلْمَخْلوطُ</a:t>
            </a:r>
            <a:r>
              <a:rPr b="1" lang="ar-SA" sz="6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EG" sz="62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87280" y="2421000"/>
            <a:ext cx="77043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00ff"/>
                </a:solidFill>
                <a:latin typeface="Times New Roman"/>
              </a:rPr>
              <a:t>عِنْدَما أخْلِطُ الْمَوادَّ الصُّلْبَةَ بالْماِء، فَإِنَّ بَعْضَها يَطْفُو عَلى سَطْحِ الْماءِ، وَبَعْضَها الآخَرَ يَنْغَمِرُ</a:t>
            </a:r>
            <a:r>
              <a:rPr b="1" lang="ar-SA" sz="50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73320" y="1197000"/>
            <a:ext cx="6412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600" spc="-1" strike="noStrike">
                <a:solidFill>
                  <a:srgbClr val="000000"/>
                </a:solidFill>
                <a:latin typeface="Times New Roman"/>
              </a:rPr>
              <a:t>خلط المواد الصلبة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4292640"/>
            <a:ext cx="2374920" cy="1882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68360" y="344520"/>
            <a:ext cx="208764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1773360"/>
            <a:ext cx="8497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* 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بَعْضُ المَوَادِّ الصُّلْبَةِ يَذُوْبُ في السَّوَائلِ؛ الذَّوَبَانُ امْتِزَاجُ الْمَادَّةِ كُلِّيَّا بِالسَّائِلِ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* 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هَذا النَّوْعُ مِنَ الْمَخَالِيْطِ يَصْعُبُ فَصْلُ مُكَوِّناتِهِ بَعْضِها عَنْ بَعْضٍ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40280" y="549360"/>
            <a:ext cx="5755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000000"/>
                </a:solidFill>
                <a:latin typeface="Times New Roman"/>
              </a:rPr>
              <a:t>مَخاليطُ أُخْرى</a:t>
            </a:r>
            <a:endParaRPr b="0" lang="en-US" sz="6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349236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2997360"/>
            <a:ext cx="7920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1" lang="ar-SA" sz="5600" spc="-1" strike="noStrike">
                <a:solidFill>
                  <a:srgbClr val="ff00ff"/>
                </a:solidFill>
                <a:latin typeface="Times New Roman"/>
              </a:rPr>
              <a:t>بَعْضُ السَّوائِلِ، ومْنها الْماءُ، والزَّيْتُ، لا يُمْكِنُ خَلْطُه، فَيَبْقَى مُنْفَصِلاً بَعْضُهُ عَنْ بَعْضٍ</a:t>
            </a:r>
            <a:r>
              <a:rPr b="1" lang="ar-SA" sz="5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63840" y="1484280"/>
            <a:ext cx="7828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000000"/>
                </a:solidFill>
                <a:latin typeface="Times New Roman"/>
              </a:rPr>
              <a:t>سوائل لا يمكن خلطها</a:t>
            </a:r>
            <a:r>
              <a:rPr b="1" lang="ar-SA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3032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7:52:41Z</dcterms:modified>
  <cp:revision>33</cp:revision>
  <dc:subject/>
  <dc:title>PowerPoint Presentation</dc:title>
</cp:coreProperties>
</file>