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_1.wav" ContentType="audio/x-wav"/>
  <Override PartName="/ppt/media/CLICKER(1).WAV" ContentType="audio/x-wav"/>
  <Override PartName="/ppt/media/CNNTONE.WAV" ContentType="audio/x-wav"/>
  <Override PartName="/ppt/media/image2.wmf" ContentType="image/x-wmf"/>
  <Override PartName="/ppt/media/image1.wmf" ContentType="image/x-wmf"/>
  <Override PartName="/ppt/media/CHEEPCHP.WAV" ContentType="audio/x-wav"/>
  <Override PartName="/ppt/media/image5.wmf" ContentType="image/x-wmf"/>
  <Override PartName="/ppt/media/image3.wmf" ContentType="image/x-wmf"/>
  <Override PartName="/ppt/media/image4.wmf" ContentType="image/x-wmf"/>
  <Override PartName="/ppt/media/suction.wav" ContentType="audio/x-wav"/>
  <Override PartName="/ppt/media/compre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29A-664A-46A3-A50A-E4A016B3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FC9-4972-4129-9AA6-2BE9BB5C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1DC-3E71-4858-9417-7D8DDC8B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1E7-42BE-4BE5-A0BA-7C02C300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EB6-CB0A-4FFE-A635-F40C5334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07B6-559D-432F-A30B-416BC1A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EDF-A49B-4A4C-9810-6AB33DDF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47FB-909E-4D16-995C-C10EB91F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C6E2-A600-4996-82BC-1F61A7D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6489-6B0B-4784-A27B-F11C482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7DAA-3FD3-4E25-ABD3-3583E56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1F5-ED81-4E78-A229-3185EAE6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814-1A02-4EB9-A973-3E5C842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DD00-7959-4EA3-BFF1-C7A646F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FDA-118F-4D2E-A130-2121216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3D2D-27CD-4D4A-BEEE-B01EDEB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F10C-079D-4A80-BE5C-4E845B73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51B-4726-4A41-8571-8FC4C85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B02-BE6F-4383-82F9-571EE54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0E7-D5FE-4D1D-9A84-20AA516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ECE-3756-4F5B-A4BC-D254E3B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880-68CC-4ECC-9726-6A67822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153-16CD-4759-B352-45B2292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AAB-9292-4BFA-9652-DEE0ADE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8556-AE81-4066-A928-85C9C372A90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AC0-0859-457A-A6F9-AC5CD64DC70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rm_1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uction.wav"/><Relationship Id="rId3" Type="http://schemas.openxmlformats.org/officeDocument/2006/relationships/audio" Target="../media/compress.wav"/><Relationship Id="rId4" Type="http://schemas.openxmlformats.org/officeDocument/2006/relationships/audio" Target="../media/compres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838600"/>
            <a:ext cx="7920000" cy="21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381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593bf"/>
                    </a:gs>
                    <a:gs pos="50000">
                      <a:srgbClr val="00ffff"/>
                    </a:gs>
                    <a:gs pos="100000">
                      <a:srgbClr val="0593bf"/>
                    </a:gs>
                  </a:gsLst>
                  <a:lin ang="8100000"/>
                </a:gradFill>
                <a:effectLst>
                  <a:outerShdw dist="660360" dir="5334402" blurRad="0" rotWithShape="0">
                    <a:srgbClr val="000000">
                      <a:alpha val="70000"/>
                    </a:srgbClr>
                  </a:outerShdw>
                </a:effectLst>
                <a:latin typeface="Hesham Gornata"/>
              </a:rPr>
              <a:t>الآلات البسيطة</a:t>
            </a:r>
            <a:endParaRPr b="1" lang="en-US" sz="6600" spc="1" strike="noStrike">
              <a:ln w="381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593bf"/>
                  </a:gs>
                  <a:gs pos="50000">
                    <a:srgbClr val="00ffff"/>
                  </a:gs>
                  <a:gs pos="100000">
                    <a:srgbClr val="0593bf"/>
                  </a:gs>
                </a:gsLst>
                <a:lin ang="8100000"/>
              </a:gradFill>
              <a:effectLst>
                <a:outerShdw dist="660360" dir="5334402" blurRad="0" rotWithShape="0">
                  <a:srgbClr val="000000">
                    <a:alpha val="7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arm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42100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يَصْعُبُ عَلَيَّ أَحْياناً تَحْريكُ الأَشْياءِ؛ لِذَا، فَقَدْ أحْتاجُ إِلى شَيْءٍ يُسَاعِدُني عَلَى تَحْريكِها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060640"/>
            <a:ext cx="640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آلَةُ الْبَسيطَةُ أَداةٌ تُسَهِّلُ تَحْريكَ الأَشْياءِ. وَتُساعِدُ النّاسَ عَلى إِنْجازِ بَعْضِ الأَعْما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5831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06280"/>
            <a:ext cx="74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ْبَكَرَةُ عَجَلَةٌ يُحَرِّكُهَا حَبْلٌ. وَهِيَ تُساعِدُ عَلى رَفْعِ الأَشْياءِ الثَّقيلَةِ. كَمَا تُساعِدُ عَلى حَمْلِ الأَشْياءِ إلى أَماكِن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6600" y="15066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الَبْكَرَةَ آلَةٌ بَسيطَةٌ</a:t>
            </a: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66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360" y="907920"/>
            <a:ext cx="4392720" cy="1008360"/>
          </a:xfrm>
          <a:custGeom>
            <a:avLst/>
            <a:gdLst>
              <a:gd name="textAreaLeft" fmla="*/ 118800 w 4392720"/>
              <a:gd name="textAreaRight" fmla="*/ 4273920 w 4392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940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470" y="21600"/>
                </a:lnTo>
                <a:arcTo wR="3600" hR="3600" stAng="10800000" swAng="5400000"/>
                <a:lnTo>
                  <a:pt x="9407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الرَّوافِعُ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37000"/>
            <a:ext cx="80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رّافِعَةُ آلَةٌ بَسيطَةٌ. وَهِيَ قَضيبٌ يَرتَكِزُ عَلَى نُقْطَةٍ مُعَيَّنَةٍ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57200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81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7640" y="907920"/>
            <a:ext cx="3744720" cy="1008360"/>
          </a:xfrm>
          <a:custGeom>
            <a:avLst/>
            <a:gdLst>
              <a:gd name="textAreaLeft" fmla="*/ 118800 w 3744720"/>
              <a:gd name="textAreaRight" fmla="*/ 3625920 w 3744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801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594" y="21600"/>
                </a:lnTo>
                <a:arcTo wR="3600" hR="3600" stAng="10800000" swAng="5400000"/>
                <a:lnTo>
                  <a:pt x="8019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اَلسَّطْحُ الْمائِل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08280"/>
            <a:ext cx="853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يْضاً آلَةٌ بَسيطَةٌ. يُسْتَخْدَمُ السَّطْحُ الْمائِلُ لِتَحْريكِ الأَشْياءِ إِلى الأَعْلى أوَ إِلى الأَسْفَ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ُسْتَخْدَمُ السَّطْحُ الْمائِلُ أَحْياناً لِتَحْريكِ أَشْياءٍ يَصْعُبُ تَحْريكُها إلى الأَعْلَى أو عَلى السُّلَّم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46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25:04Z</dcterms:modified>
  <cp:revision>37</cp:revision>
  <dc:subject/>
  <dc:title>PowerPoint Presentation</dc:title>
</cp:coreProperties>
</file>