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CHEEPCHP.WAV" ContentType="audio/x-wav"/>
  <Override PartName="/ppt/media/music.wav" ContentType="audio/x-wav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E8F-4022-47B2-A75B-B78C081F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4E6-1309-4FFC-A53E-51752BEF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A74-F9FC-44A3-8DC0-20D661F5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FB7-B77E-4233-9586-F58431A9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3732-2BEE-4D3B-A3D1-2F272C87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273E-DAE0-49CD-BF40-8EA5FA4B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7B28-58C3-4BB0-8D1E-13E83C3C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9535-CB64-4324-82A4-A7B8EFD3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EFE5-13B4-4B3E-92D6-FE11C27C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AD26-E043-4456-A9B1-04CA2CA4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7328-1A66-45A8-9638-EDB9BF59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05B-3D73-4CAA-B98E-A8494619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FB74-29D9-4494-9A85-69B740D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39AF-0C92-43A7-9144-ECA8473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D836-82BD-4733-8A14-7A4D1106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B015-EE98-4D2C-8617-E8AB0EAF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586C-C9C4-4041-A709-D8691490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BE3-77C5-4B65-944E-EA89C1A6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3ED-8A71-4156-B020-61F8F523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6A4-00D8-4B9E-B1E9-86789385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D7C-59F7-439F-BF8E-040E575C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BD3-981C-4D88-87B6-6BFCB959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542-90CB-4106-AADD-57A8B5A6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CB2-293A-4877-B89B-C387F837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36D-FA40-49C6-81E9-3DEC652C0318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08DB-95B5-449B-A5B1-6DA22AF89FD4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EEPCHP.WAV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43280" y="907920"/>
            <a:ext cx="4465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قراءة علمية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3573360"/>
            <a:ext cx="7199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الزجاج الملون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067760"/>
            <a:ext cx="763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ما الأَشْكالُ الَّتِي أَرَاهَا في الزُّجاجِ الْمُلَّوَنِ في الصُّورَةِ؟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ما عَدَدُ الدَّوائِرِ الّتي أَرَاهَا؟ وَما عَدَدُ الْمُسْتَطيلاتِ؟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تَتَكَوَّنُ النَّوافِذُ الزُّجاجِيَّةُ الْمُلَوَّنَةُ مِنْ عِدَّةِ قِطَعٍ مِنَ الزُّجاجِ الْمُلَوَّنِ</a:t>
            </a: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عِنْدَما تَمُرُّ أَشِعَّةُ الشَّمْسِ مِنْ خِلالِ الزُّجاجِ الْمُلَوَّنِ، فَإِنَّني أرى الضَّوْءَ بأَلْوانٍ مُخْتَلِفَةٍ</a:t>
            </a: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619920"/>
            <a:ext cx="4382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أُحَدِّدُ الأَشْكالَ.</a:t>
            </a:r>
            <a:endParaRPr b="0" lang="en-US" sz="5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60872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059360"/>
            <a:ext cx="32400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1:20:49Z</dcterms:modified>
  <cp:revision>34</cp:revision>
  <dc:subject/>
  <dc:title>PowerPoint Presentation</dc:title>
</cp:coreProperties>
</file>