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1914-32D9-467F-BB7D-72786660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D0F-C93A-42FD-AA2E-45E93E2C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48B-F45C-4F4C-8EED-0C9B5E9A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BD16-DFBE-4E55-8E2C-34105B07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312-94E8-426C-AE33-89E47566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848-A5DA-4878-BEDF-41FB65BA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07AA-5CB6-4C5C-BD81-FB28F9BC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33B-8609-4B8B-AED1-3A1318FB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CB1-2C11-480C-9FBE-F33746B0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CDE-3A29-4C80-B6D0-D20677B3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2C2-056B-4774-A9CD-471E1CBD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99E1-64B1-4DBE-984A-1683DD5B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9402-045C-4539-B384-C3C6CE5ADBF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410" t="7707" r="8564" b="23399"/>
          <a:stretch/>
        </p:blipFill>
        <p:spPr>
          <a:xfrm>
            <a:off x="7667640" y="0"/>
            <a:ext cx="1297080" cy="175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765000"/>
            <a:ext cx="7772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79185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Diwani Bent"/>
              </a:rPr>
              <a:t>بسم الله الرحمن الرحي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ورقة عمل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ثيل البيانات ونظم الأعداد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لاسم:....................................................                       الصف:................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أول</a:t>
            </a: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ea typeface="AGA Dimnah Regula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قرئي العبارات التالية و أحيطي الإشارة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صحيحة وأحيطي الإشارة 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خاطئ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ني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أكملي الفراغات التالي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وز النظام الثنائي هي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........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ساس النظام السادس عشر هو 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ل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حسبي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لي من النظام الثنائي الى النظام العشري 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1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1844640"/>
            <a:ext cx="439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2708280"/>
          <a:ext cx="7656480" cy="865080"/>
        </p:xfrm>
        <a:graphic>
          <a:graphicData uri="http://schemas.openxmlformats.org/drawingml/2006/table">
            <a:tbl>
              <a:tblPr/>
              <a:tblGrid>
                <a:gridCol w="6481440"/>
                <a:gridCol w="358920"/>
                <a:gridCol w="816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س النظام السادس عشر هو العدد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بايت الواحد تساوي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بي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24000" y="476280"/>
            <a:ext cx="1152360" cy="7920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3640" y="836640"/>
            <a:ext cx="115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6021360"/>
            <a:ext cx="477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1:27:13Z</dcterms:created>
  <dc:creator>norah</dc:creator>
  <dc:description/>
  <dc:language>en-US</dc:language>
  <cp:lastModifiedBy>شوشو</cp:lastModifiedBy>
  <dcterms:modified xsi:type="dcterms:W3CDTF">2007-01-01T15:56:08Z</dcterms:modified>
  <cp:revision>64</cp:revision>
  <dc:subject/>
  <dc:title>عرض تقديمي من PowerPoint</dc:title>
</cp:coreProperties>
</file>