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F967-DC34-48B6-85B5-61921958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E6B4-71CE-4E48-9ADD-858F3CB7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F3B2-5770-4009-BE05-66F4F9D4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D9A2-705E-4506-9B7F-5606FFAB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6BE7-BAB0-4BBF-801B-345D4526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4B1A-296C-4EA2-AA52-A5C98556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BBCA-5DBC-43DB-9C96-23A37D87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541E-5546-4632-82E5-7F75F388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01E2-CBBC-489B-AF87-026F23E6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F7C6-029C-4176-A8C1-67939B6D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8725-9059-4766-9793-4EBBD0A9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1D9D-9D86-4718-AE8C-0DC376B5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A374-749F-46C7-A52F-9987BFE6692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410" t="7707" r="8564" b="23399"/>
          <a:stretch/>
        </p:blipFill>
        <p:spPr>
          <a:xfrm>
            <a:off x="7667640" y="0"/>
            <a:ext cx="1297080" cy="175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765000"/>
            <a:ext cx="77724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49360"/>
            <a:ext cx="791856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Diwani Bent"/>
              </a:rPr>
              <a:t>بسم الله الرحمن الرحي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ورقة عمل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ثيل البيانات ونظم الأعداد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لاسم:....................................................                       الصف:................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أول</a:t>
            </a: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ea typeface="AGA Dimnah Regular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قرئي العبارات التالية و أحيطي الإشارة  </a:t>
            </a:r>
            <a:r>
              <a:rPr b="1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إذا كانت العبارة صحيحة وأحيطي الإشارة   </a:t>
            </a:r>
            <a:r>
              <a:rPr b="1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إذا كانت العبارة خاطئة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ثاني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أكملي الفراغات التالي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وز النظام الثنائي هي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........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ساس النظام السادس عشر هو 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ثال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حسبي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ولي من النظام الثنائي الى النظام العشري 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11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؟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1844640"/>
            <a:ext cx="4392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2708280"/>
          <a:ext cx="7656480" cy="865080"/>
        </p:xfrm>
        <a:graphic>
          <a:graphicData uri="http://schemas.openxmlformats.org/drawingml/2006/table">
            <a:tbl>
              <a:tblPr/>
              <a:tblGrid>
                <a:gridCol w="6481440"/>
                <a:gridCol w="358920"/>
                <a:gridCol w="816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ساس النظام السادس عشر هو العدد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 rtl="1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يمة البايت الواحد تساوي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بي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 rtl="1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324000" y="476280"/>
            <a:ext cx="1152360" cy="79200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23640" y="836640"/>
            <a:ext cx="11523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92360" y="6021360"/>
            <a:ext cx="477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1:27:13Z</dcterms:created>
  <dc:creator>norah</dc:creator>
  <dc:description/>
  <dc:language>en-US</dc:language>
  <cp:lastModifiedBy>شوشو</cp:lastModifiedBy>
  <dcterms:modified xsi:type="dcterms:W3CDTF">2007-01-01T15:56:08Z</dcterms:modified>
  <cp:revision>64</cp:revision>
  <dc:subject/>
  <dc:title>عرض تقديمي من PowerPoint</dc:title>
</cp:coreProperties>
</file>