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E6B8-C72D-4D0A-B0E0-F0927FB92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A147-ED96-4740-844F-F47AC4869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5C2F-49E8-4A24-B74F-D20E81B40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DBD7-6C23-4F7D-BC08-C16A3C5F9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EB77-5758-4BAF-B869-832F07867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7A8A-F315-4914-BA78-EE3DCCA18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AA69-2FC6-4DED-9E18-4F4A9A59E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9CCA-DE30-4641-9731-06E94AEE4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5CC0-50CA-4DBB-A714-A254B40D7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7E5B-BF7A-4BC6-91E4-A7B4CCC06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0A3D-9754-4BF7-BEB0-8B57ACD7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A7C1-D156-4A27-871C-09864DDF9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70439-A3B1-4555-A4C4-E376F3B96CF4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828800" y="2533680"/>
            <a:ext cx="1838160" cy="1752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419720" y="2362320"/>
            <a:ext cx="298584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2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440" y="990360"/>
            <a:ext cx="3809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ven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ziz</a:t>
            </a:r>
            <a:r>
              <a:rPr b="0" lang="en-US" sz="6000" spc="-1" strike="noStrike">
                <a:solidFill>
                  <a:srgbClr val="ff3300"/>
                </a:solidFill>
                <a:latin typeface="Times New Roman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yad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921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47960" y="990360"/>
            <a:ext cx="3809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ud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il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n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5T19:03:05Z</dcterms:created>
  <dc:creator>Bafayad</dc:creator>
  <dc:description/>
  <dc:language>en-US</dc:language>
  <cp:lastModifiedBy>معمل الانجليزي</cp:lastModifiedBy>
  <dcterms:modified xsi:type="dcterms:W3CDTF">2005-03-26T04:41:37Z</dcterms:modified>
  <cp:revision>3</cp:revision>
  <dc:subject/>
  <dc:title>عرض تقديمي من PowerPoint</dc:title>
</cp:coreProperties>
</file>