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904-806F-42B7-9493-5025467B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329-DB3D-4CE3-BB4A-4D95A33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320-996F-4349-869F-9BB143C4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973-DAC3-4C3F-A807-3F264381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FD4-C570-4D63-9983-EF091E43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630-593D-4B0F-B330-5051370E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699-6FFE-4C6C-93CC-5FF38CBF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503-80B8-49CB-8836-BF94EDDC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674-A85C-4B46-B375-AC9BB1F2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38A-6674-4BAF-A430-92BA62AC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B6B-A617-4E63-9198-83CFD3A1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7613-E2B6-4551-B2F8-007A9433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012B-3498-4CBF-ADEB-2C0F377A9B5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4099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6858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8195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8195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8769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Abbrev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8769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اختصارات اخ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77156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9720" y="160020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3885840"/>
            <a:ext cx="6019920" cy="2514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heq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lif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ty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t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trous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program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ol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te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N.B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10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O.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3-27T08:49:45Z</dcterms:modified>
  <cp:revision>7</cp:revision>
  <dc:subject/>
  <dc:title>عرض تقديمي من PowerPoint</dc:title>
</cp:coreProperties>
</file>