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503-749C-497E-ABDB-79E0A5AA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D5F-14DD-41BB-97BE-FF63E2EE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686-E88D-4ED6-AD28-C8CA7AD7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FAB-7002-4F6A-AA85-4301254F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EF8-4168-43B3-9583-2812AF1B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7CC-AD8D-4AA6-9755-0098340B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118-705C-499F-A7A9-1B1A9D73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6B0-1A19-4CE1-9551-735412C1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3D6D-824C-4647-AE29-251C8C5E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3B5-CAB2-4858-833D-54D3A32F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CB2-BAE9-484C-B846-B65C5DF0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CC9-2A8C-4DB1-A849-439609E0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D9DE-0B0A-4670-ACE6-4FF2A48D8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cc"/>
                </a:solidFill>
                <a:latin typeface="Times New Roman"/>
              </a:rPr>
              <a:t>Writing Book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CLIPART\HOMEANIM\AG00343_.GIF"/>
          <p:cNvPicPr/>
          <p:nvPr/>
        </p:nvPicPr>
        <p:blipFill>
          <a:blip r:embed="rId1"/>
          <a:stretch/>
        </p:blipFill>
        <p:spPr>
          <a:xfrm>
            <a:off x="1709640" y="3886200"/>
            <a:ext cx="2100240" cy="2590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4648320" y="4191120"/>
            <a:ext cx="29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...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bu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…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6172200" y="609480"/>
            <a:ext cx="1981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4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04920" y="533520"/>
            <a:ext cx="44193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داية الجم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شخاص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لقاب الأشخا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لغ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ماك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عناو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شه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ي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'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' 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ضمير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عنوان 1"/>
          <p:cNvSpPr/>
          <p:nvPr/>
        </p:nvSpPr>
        <p:spPr>
          <a:xfrm>
            <a:off x="4572000" y="228600"/>
            <a:ext cx="4191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روف الكبي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5181480" y="1752480"/>
            <a:ext cx="3581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حروف الكبيرة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i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حالات التا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في نهاية كل جم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بعد الاختصار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371600" y="5335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Full  Stop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النقاط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438280" y="20574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نقاط 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مع المفرد نضع ، ثم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مع الجمع نض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ثم 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000000"/>
                </a:solidFill>
                <a:latin typeface="Times New Roman"/>
              </a:rPr>
              <a:t>مع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t is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ar-SA" sz="3600" spc="-1" strike="noStrike">
                <a:solidFill>
                  <a:srgbClr val="000000"/>
                </a:solidFill>
                <a:latin typeface="Times New Roman"/>
              </a:rPr>
              <a:t>و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t 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371600" y="53352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postrophes  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</a:rPr>
              <a:t>الفواصل العلي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438280" y="20574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فواصل العليا 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ين الأشياء في القوائ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كلمات الافتتاح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عبارات الطوي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في نهاية الجم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أسئلة الذي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خانة الأل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ي مواضع خاصة من الرسا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371600" y="3808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ommas  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</a:rPr>
              <a:t>الفواص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438280" y="15238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</a:t>
            </a:r>
            <a:r>
              <a:rPr b="1" i="1" lang="ar-SA" sz="3600" spc="-1" strike="noStrike">
                <a:solidFill>
                  <a:srgbClr val="000000"/>
                </a:solidFill>
                <a:latin typeface="Times New Roman"/>
              </a:rPr>
              <a:t>الفواصل </a:t>
            </a: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371600" y="533520"/>
            <a:ext cx="6400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تنسى الفراغ في بداية كل قطعة بمقدار 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5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أحر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te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ot out of my father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 ca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 saw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 o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led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eet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bruary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ct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er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 was at his brother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 hospital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said she wanted to lear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man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388620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kniv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box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omat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sta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app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pa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الجمل المتشابه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الجمل المتناقض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جمل بها اختي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عند الربط نحذف الكلمات المتكر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1981080" y="60948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الروابط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4:22:52Z</dcterms:created>
  <dc:creator>Bafayad</dc:creator>
  <dc:description/>
  <dc:language>en-US</dc:language>
  <cp:lastModifiedBy>- </cp:lastModifiedBy>
  <dcterms:modified xsi:type="dcterms:W3CDTF">2007-02-24T21:08:30Z</dcterms:modified>
  <cp:revision>15</cp:revision>
  <dc:subject/>
  <dc:title>Writing Book</dc:title>
</cp:coreProperties>
</file>