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D34-3853-47F8-B414-721480AC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080-35CF-49F6-BF89-C05AB08F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2DC-0F61-43C8-8968-A19A748A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285-8EB7-44B8-9B98-C2D1742D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33C-AE03-4FD9-AA7A-B2E6C382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808D-6966-49CE-B35C-F91E286E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36B-F55D-4C99-8657-02220468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CE1-23C7-4877-961E-43C372AA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724-087A-48AB-8201-7848309A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FCA-FAEA-4DBB-92F8-446AA60A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83A-BA57-4339-AE9E-0DCCCF72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573-70E1-4E0B-AD53-1290DF99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F0C8-F425-49F5-89FD-711A09AB2DE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3629160"/>
            <a:ext cx="2666880" cy="254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786200" y="376236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VIDING 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mo- 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nth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in Islamic calendar.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Ram-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They are not allowed to eat or drink between dawn and sunset. Fasting strengthens a person by increasing his self-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on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Islamic calenda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am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not allowed to eat or drink between dawn and sunse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ting strengthens a person by increasing his self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not divide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not necess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does not help you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abi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versit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ject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p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inah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8:11:20Z</dcterms:created>
  <dc:creator>Bafayad</dc:creator>
  <dc:description/>
  <dc:language>en-US</dc:language>
  <cp:lastModifiedBy>معمل الانجليزي</cp:lastModifiedBy>
  <dcterms:modified xsi:type="dcterms:W3CDTF">2005-03-19T08:37:29Z</dcterms:modified>
  <cp:revision>11</cp:revision>
  <dc:subject/>
  <dc:title>Ramadan is the ninth mo-  nth in Islamic calendar.  All adult must fast Ram- adan. They are not allowed to eat or drink between dawn and sunset. Fasting strengthens a person by increasing his self-control.</dc:title>
</cp:coreProperties>
</file>