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CF0-E5BB-47DF-8382-B4483B26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986-41EC-4BD5-A5B8-22EEC272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043-9C6B-4383-A884-3614A967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01C-20DC-43AE-9A5C-3A579517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279-EB61-4CDE-B9EF-B95D6A9B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0DC-04CA-411E-9FE4-B11D113D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FD6-54A1-4F23-8F4D-38386F94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AF1-5778-4975-80F2-F4D02CA0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A086-988C-4CF9-9A8E-EB91885C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E36-5C5A-48AB-8B4A-AA2461E5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A5A-658D-486B-B90D-EE8E5A9E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DD5-6DAB-4B41-BB09-D862600A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1CE7-41E2-4F14-9963-F43E73984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lligraphy" descr=""/>
          <p:cNvPicPr/>
          <p:nvPr/>
        </p:nvPicPr>
        <p:blipFill>
          <a:blip r:embed="rId1"/>
          <a:stretch/>
        </p:blipFill>
        <p:spPr>
          <a:xfrm>
            <a:off x="2590920" y="4667400"/>
            <a:ext cx="3657600" cy="196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242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rativ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7632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aring Roman Script with Gothic Scrip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man and Gothic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ell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n English script. Roman is mo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an Gothic because It is easi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a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ause of this , Roman Script is more often  used in prin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ryday handwriting than Gothic 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man script is not as heavy as Gothic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less decorativ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 scripts are vertic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3T05:05:05Z</dcterms:modified>
  <cp:revision>8</cp:revision>
  <dc:subject/>
  <dc:title>عرض تقديمي من PowerPoint</dc:title>
</cp:coreProperties>
</file>