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9A2-06CB-4A41-9BDE-F42390E4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A5F-0193-4DF4-8180-AB56E7F4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E92-F8AA-4ABA-8D13-62ABEBAD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057-DA71-4E62-ADF8-C4ACCFCE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6FD-9013-465B-8B19-3D4E8D20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88F-A39D-49ED-B867-BAEE812E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30B-3E0D-4F5C-A717-090516AC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BA1-DFE4-4A26-8A43-BE425532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FBC-5339-4635-9E39-71014EB6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B6E-E5F0-4CF8-9977-85A04218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653-13DA-4346-BA66-9423C5F4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FE02-BA9D-40A9-9492-1B8BF1C9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314D-0DF2-4E90-B2D5-6397B4296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kespeare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e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dg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24280" y="609480"/>
            <a:ext cx="3810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o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t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io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4:51:13Z</dcterms:created>
  <dc:creator>Bafayad</dc:creator>
  <dc:description/>
  <dc:language>en-US</dc:language>
  <cp:lastModifiedBy>Bafayad</cp:lastModifiedBy>
  <dcterms:modified xsi:type="dcterms:W3CDTF">2004-02-14T14:51:22Z</dcterms:modified>
  <cp:revision>1</cp:revision>
  <dc:subject/>
  <dc:title>عرض تقديمي من PowerPoint</dc:title>
</cp:coreProperties>
</file>