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A1F-7E58-4343-B97A-4DC37074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AAC-0BCF-4A2F-93D3-0C714878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8F9-2A22-4A76-A444-0727D9B1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B2B-F02F-4366-A669-A69F2354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A7C-E259-442B-8F39-DCE0D1B7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8F3-84A3-48AE-B238-5243542A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539-F72E-4704-AE8A-EDE40D3E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5EC-54F8-471D-9A95-0AA372A1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5AD-DBB9-426A-B266-E83983AC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6EC-D506-4520-9798-0FAB0FBE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17C-BBE5-4AC5-AAC2-2B23D9D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444-F6FD-4D73-B044-0293B70D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C7CA-8D1E-4005-BE53-D556EEF9902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524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3526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اخـتـصـارا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بعض الكل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ماك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عدا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قياس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يام الأسبوع واشهر الس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Common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رموز عام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pr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6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Makkah S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.K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niversity 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e.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12:10Z</dcterms:created>
  <dc:creator>Bafayad</dc:creator>
  <dc:description/>
  <dc:language>en-US</dc:language>
  <cp:lastModifiedBy>معمل الانجليزي</cp:lastModifiedBy>
  <dcterms:modified xsi:type="dcterms:W3CDTF">2005-03-27T06:42:15Z</dcterms:modified>
  <cp:revision>8</cp:revision>
  <dc:subject/>
  <dc:title>عرض تقديمي من PowerPoint</dc:title>
</cp:coreProperties>
</file>