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E4ED-F03E-4045-8DA0-8A32624B1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38DE-3A4C-46C1-85A0-36E67AB1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2381-C254-46F1-B0A4-61EE4AC6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9D77-C748-4D22-BC7F-0BD15994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3663-6E95-4FCF-9E49-071A89F3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074D-9E03-4189-B46F-2C4C00E6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2C36-1A45-4705-AF16-B64C4F0B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7716-0E1B-4BCB-AC62-DDA9377A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FA27-BD65-40C5-9350-7345F74D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B21C-D65B-4421-A2E9-EC777835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CEC4-5EF2-4F41-905A-809633EA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939B-D700-458C-B21C-DB66380A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87B4-66AD-4FC5-BC28-47B830A7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0D31-58D2-4383-86E2-E64C1488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6A02-675F-4B95-A0DE-748B983F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20EA-C415-4494-BC38-B92BD5BC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004C-7B45-444D-9CAF-5D439C8C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FECE-ACDA-4C7B-B2F7-3BBCE55C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D9B2-BD25-4929-BE41-DBC7BC8A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285D-CA90-4C53-ADC3-998948E3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C4CF-FF19-4C85-843A-C3709F70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1A3A-E09E-4569-A7FB-24E42C62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534C-9AD6-4D09-A893-326BCF35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C477-DFB6-4F7E-9692-CEDF5518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55BF-4A3F-4408-9068-C91C01B02492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0A8A-00ED-413B-BE4C-4E219CA8E919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4211640" y="189000"/>
            <a:ext cx="792000" cy="307080"/>
          </a:xfrm>
          <a:prstGeom prst="rect">
            <a:avLst/>
          </a:prstGeom>
          <a:solidFill>
            <a:srgbClr val="cc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50920" y="476280"/>
            <a:ext cx="2448000" cy="30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 SPELL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50920" y="836640"/>
            <a:ext cx="4249800" cy="307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ing the last conson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50920" y="1197000"/>
            <a:ext cx="54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should I double the last consonant of wor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50920" y="1628640"/>
            <a:ext cx="1441440" cy="4412520"/>
          </a:xfrm>
          <a:prstGeom prst="rect">
            <a:avLst/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you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se to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908000" y="1628640"/>
            <a:ext cx="3384720" cy="4523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 the last consonan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has 1 syllable and ends 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wel + 1 consona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t – s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g – bigg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– stopp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ends in a stressed sylla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 – controll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- beginn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ends 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wel + 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vel - trave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5580000" y="1628640"/>
            <a:ext cx="3384720" cy="44125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do not double the last consonant 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 are two vowels or two consonan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it ---wa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l --- coo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ing ---brin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ast syllable is not stress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it – visit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- devel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ends in w , x or 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w -   show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x – box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y – play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aw - draw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50920" y="189000"/>
            <a:ext cx="259056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ing y to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0920" y="549360"/>
            <a:ext cx="33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should I change y to 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79280" y="981000"/>
            <a:ext cx="2232000" cy="21420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you add these to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627280" y="981000"/>
            <a:ext cx="2376360" cy="214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 +change the y to 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 word ends in a consonant + 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y – tri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ry – carri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y  - dri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y – fli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5292720" y="981000"/>
            <a:ext cx="3240000" cy="192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do not change it 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ends  in a vowel + 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y – pla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y – bu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y – say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24000" y="3429000"/>
            <a:ext cx="2232000" cy="30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ing off the final 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468360" y="371628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 should I take the final e off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250920" y="4005360"/>
            <a:ext cx="2160360" cy="2253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you ad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2700360" y="4076640"/>
            <a:ext cx="2663640" cy="2253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ve the e 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 is sil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– writ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– u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are some exceptio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 ___dy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e __ ly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5580000" y="4076640"/>
            <a:ext cx="2879640" cy="1604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do not remove the e 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 is sil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__ see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 __ be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179280" y="189000"/>
            <a:ext cx="158436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ng 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4000" y="692280"/>
            <a:ext cx="2952720" cy="30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should I add e to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24000" y="1125360"/>
            <a:ext cx="2232000" cy="48481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you ad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276720" y="1197000"/>
            <a:ext cx="3240000" cy="4736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e 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ends in ch , s , sh , x  or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sometimes  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)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tch __ wat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x __ box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__ do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 __ go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ato __ potato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mato __ tomato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are several exceptions, for examp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oto __ pho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 __ rad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__ video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4:19:37Z</dcterms:created>
  <dc:creator>عبدالله &amp; محمد</dc:creator>
  <dc:description/>
  <dc:language>en-US</dc:language>
  <cp:lastModifiedBy>- </cp:lastModifiedBy>
  <dcterms:modified xsi:type="dcterms:W3CDTF">2007-02-17T15:10:26Z</dcterms:modified>
  <cp:revision>12</cp:revision>
  <dc:subject/>
  <dc:title>الشريحة 1</dc:title>
</cp:coreProperties>
</file>