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345-0B44-4416-B515-C4E64A39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224-6FDE-4FB2-820E-908DE6DB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5D1-86B9-4BCD-864F-229EA779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3FF-E22E-4A7D-A738-21327D78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9380-AA0C-45C9-B21E-5DFC3E13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DF4-B488-4EFC-B08B-6DBC19EC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54B-5322-4F66-966F-845B160E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AD9-AD24-4BD8-9FB7-03472F70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A4E-2F49-4401-B58E-3354A39E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8C1-EA2E-425C-A44B-EA1499B5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832-BA58-46D8-BD57-F6078C4F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ED0-923D-4BF1-9061-8D41D16D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6FFE-C29E-4264-B6B8-A9EA1D5B4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ing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e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6176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Bafayad</cp:lastModifiedBy>
  <dcterms:modified xsi:type="dcterms:W3CDTF">2004-05-01T15:44:15Z</dcterms:modified>
  <cp:revision>5</cp:revision>
  <dc:subject/>
  <dc:title>عرض تقديمي من PowerPoint</dc:title>
</cp:coreProperties>
</file>